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60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9212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60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9212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26840" y="22032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2000"/>
          </a:bodyPr>
          <a:p>
            <a:pPr marL="268560" indent="-2685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560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945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5156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296712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69960" cy="974880"/>
            <a:chOff x="0" y="0"/>
            <a:chExt cx="669960" cy="974880"/>
          </a:xfrm>
        </p:grpSpPr>
        <p:sp>
          <p:nvSpPr>
            <p:cNvPr id="4" name=""/>
            <p:cNvSpPr/>
            <p:nvPr/>
          </p:nvSpPr>
          <p:spPr>
            <a:xfrm>
              <a:off x="6480" y="6480"/>
              <a:ext cx="655560" cy="7063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471600"/>
              <a:ext cx="655560" cy="49536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440" y="465120"/>
              <a:ext cx="666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669960" cy="974880"/>
            </a:xfrm>
            <a:custGeom>
              <a:avLst/>
              <a:gdLst/>
              <a:ahLst/>
              <a:rect l="l" t="t" r="r" b="b"/>
              <a:pathLst>
                <a:path w="422" h="614">
                  <a:moveTo>
                    <a:pt x="0" y="613"/>
                  </a:moveTo>
                  <a:lnTo>
                    <a:pt x="421" y="613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45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3657600" y="6613560"/>
            <a:ext cx="2666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13560"/>
            <a:ext cx="38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urf Attack Description &amp; Su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61356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NOG 11     </a:t>
            </a:r>
            <a:fld id="{36646AAF-EA23-4B33-854B-A5181A6677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50000" y="5911920"/>
            <a:ext cx="12272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0240" y="1911240"/>
            <a:ext cx="7524720" cy="118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Latest In Denial Of Service Attacks:  “Smurfing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0240" y="2974680"/>
            <a:ext cx="6456240" cy="1778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on and Information to Minimize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OG 11 Interprovider Operations B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0" y="1440"/>
            <a:ext cx="1052640" cy="6842160"/>
            <a:chOff x="1440" y="1440"/>
            <a:chExt cx="1052640" cy="6842160"/>
          </a:xfrm>
        </p:grpSpPr>
        <p:sp>
          <p:nvSpPr>
            <p:cNvPr id="51" name=""/>
            <p:cNvSpPr/>
            <p:nvPr/>
          </p:nvSpPr>
          <p:spPr>
            <a:xfrm>
              <a:off x="6480" y="6480"/>
              <a:ext cx="1041120" cy="248580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2070000"/>
              <a:ext cx="1041120" cy="735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4080" y="1440"/>
              <a:ext cx="0" cy="684216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0" y="2066760"/>
              <a:ext cx="1044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440" y="2811600"/>
              <a:ext cx="1044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96080" y="66438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1027_smurf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0000" y="5911920"/>
            <a:ext cx="122724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4000"/>
          </a:bodyPr>
          <a:p>
            <a:pPr marL="274320" indent="-2743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help tips for Cisco rou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ID CSCdj35407 - “fast drop” ACL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bug fix optimizes the way that packets denied by an ACL are dropped within IOS, reducing CPU utilization for large amounts of denied traffi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major release of integration is 11.1(14)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11.2 yet, but co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ID CSCdj35856 - ACL logging thrott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bug fix places a throttle in IOS which will allow a user to specify the rate at which logging will take place of packets which match a condition in an ACL where “log” or “log-input” is specifi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maintenance release of integration is 11.1(14.1)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11.2 yet, but co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9000"/>
          </a:bodyPr>
          <a:p>
            <a:pPr marL="230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on “smurf”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quadrunner.com/~chuegen/smurf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s filter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ds.internic.net/internet-drafts/draft-ferguson-ingress-filtering-03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I’s DoSTracker to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security.mci.net/dostracker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S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TCP SYN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4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UDP Diagnostic Port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3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lvl="1" marL="5716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ig Hue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cisco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quadrunner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 of “Smurfing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st DoS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-based, fills access pi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ICMP echo/reply packets with broadcast networks to multiply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he ability to send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uses “bounce-sites” to attack vict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ultiplied by a factor of 50 to 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 of Smurfing (cont’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49480" y="1447920"/>
          <a:ext cx="498312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447920"/>
                    <a:ext cx="49831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ied Bandwid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6000"/>
          </a:bodyPr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trator has T1 bandwidth available (typically a cracked account), and uses half of it (768 Kbps) to send spoofed packets, half to bounce site 1, half to bounce sit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ce site 1 has a switched co-location network of 80 hosts and T3 connection to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ce site 2 has a switched co-location network of 100 hosts and T3 connection to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84 Kbps * 80 hosts) = 30 Mbps outbound traffic for bounce sit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84 Kbps * 100 hosts) = 37.5 Mbps outbound traffic for bounce sit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tim is pounded with 67.5 Mbps (!) from half a T1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es of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5000"/>
          </a:bodyPr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erpet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cked superuser account on well-connected enterprise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user account on university residence hall network (Ether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PPP dial-up account (for smaller targ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Bounce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-location subn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witched enterprise subn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scanned for large numbers of responding ho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Vict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C Users, Operators, and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s who eliminate troublesome users’ accou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6000"/>
          </a:bodyPr>
          <a:p>
            <a:pPr marL="250920" indent="-2509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your network from being the source of the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each custome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 only those packets with source addresses within the customer’s assigned netbloc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your up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 only those packets with source addresses within your netblocks to protect oth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y those packets with source addresses within your netblocks to protect yoursel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prevents other forms of attack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4000"/>
          </a:bodyPr>
          <a:p>
            <a:pPr marL="216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being a “bounce site”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directed broadcasts to subnets with 5 hosts or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:  Interface command “no ip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on:  IP protocol configuration “disable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 Networks:  Set a false static ARP address for bcast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ccess control lists (if necessary) to prevent ICMP echo requests from entering you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ly not an elegant solution; makes troubleshooting difficu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vendors to turn off replies for ICMP echos to broadcast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Requirements RFC-1122 Section 3.2.2.6 states “An ICMP Echo Request destined to an IP broadcast or IP multicast address MAY be silently discarded.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es are available for free UNIX-ish operating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 become a bounce si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the traffic streams to the edge of your network, and work with your upstream or peer in order to track the stream fur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I’s DoSTracker 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al tracing/logging t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suppress an attack if you’re the victi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ACL’s at network edges to block ICMP echo responses to your high-visibility hosts, such as IRC ser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ain, will impair troubleshooting -- “ping” br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still allow your access pipes to f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with upstream providers to determine the help they can provide to 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 ICMP echoes for high-visibility hosts from coming through your access pi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ing att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06:16:55Z</dcterms:created>
  <dc:creator>Craig A. Huegen</dc:creator>
  <dc:description/>
  <dc:language>en-US</dc:language>
  <cp:lastModifiedBy>Craig A. Huegen</cp:lastModifiedBy>
  <cp:lastPrinted>1997-10-21T03:47:28Z</cp:lastPrinted>
  <dcterms:modified xsi:type="dcterms:W3CDTF">2000-03-05T21:24:07Z</dcterms:modified>
  <cp:revision>23846</cp:revision>
  <dc:subject/>
  <dc:title>"Smurfing": The Latest In Denial-Of-Service Attacks</dc:title>
</cp:coreProperties>
</file>