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60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9212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60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9212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26840" y="22032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3000"/>
          </a:bodyPr>
          <a:p>
            <a:pPr marL="271440" indent="-2714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13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03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62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296712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69960" cy="974880"/>
            <a:chOff x="0" y="0"/>
            <a:chExt cx="669960" cy="974880"/>
          </a:xfrm>
        </p:grpSpPr>
        <p:sp>
          <p:nvSpPr>
            <p:cNvPr id="4" name=""/>
            <p:cNvSpPr/>
            <p:nvPr/>
          </p:nvSpPr>
          <p:spPr>
            <a:xfrm>
              <a:off x="6480" y="6480"/>
              <a:ext cx="655560" cy="7063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471600"/>
              <a:ext cx="655560" cy="49536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2880" y="465120"/>
              <a:ext cx="664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669960" cy="974880"/>
            </a:xfrm>
            <a:custGeom>
              <a:avLst/>
              <a:gdLst/>
              <a:ahLst/>
              <a:rect l="l" t="t" r="r" b="b"/>
              <a:pathLst>
                <a:path w="422" h="614">
                  <a:moveTo>
                    <a:pt x="0" y="613"/>
                  </a:moveTo>
                  <a:lnTo>
                    <a:pt x="421" y="613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45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3657600" y="6613560"/>
            <a:ext cx="2666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13560"/>
            <a:ext cx="38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-Based Denial of Service Atta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61356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NOG 12     </a:t>
            </a:r>
            <a:fld id="{AE81A8F9-48DA-4AD6-97E8-5F49FB02FB8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50000" y="5911920"/>
            <a:ext cx="12398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0240" y="1911240"/>
            <a:ext cx="7524720" cy="118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twork-Based Denial of Service Attack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0240" y="2974680"/>
            <a:ext cx="6456240" cy="1778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, Descriptions, and How to Protect Your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OG 12 Interprovider Operations B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80" y="3240"/>
            <a:ext cx="1051200" cy="6840360"/>
            <a:chOff x="2880" y="3240"/>
            <a:chExt cx="1051200" cy="6840360"/>
          </a:xfrm>
        </p:grpSpPr>
        <p:sp>
          <p:nvSpPr>
            <p:cNvPr id="51" name=""/>
            <p:cNvSpPr/>
            <p:nvPr/>
          </p:nvSpPr>
          <p:spPr>
            <a:xfrm>
              <a:off x="6480" y="6480"/>
              <a:ext cx="1041120" cy="248580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2070000"/>
              <a:ext cx="1041120" cy="735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4080" y="3240"/>
              <a:ext cx="0" cy="684036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880" y="2066760"/>
              <a:ext cx="1042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80" y="2811600"/>
              <a:ext cx="1042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96080" y="66438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0209_dos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0000" y="5911920"/>
            <a:ext cx="1239840" cy="70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flo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deny access to a TCP service running on a ho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s a number of half-open TCP connections which fill up a host’s listen queue; host stops accepting connec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TCP service be open to connections from the victi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nif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7000"/>
          </a:bodyPr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generally to obtain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usernames,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code, business criti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ually a program placing an Ethernet adapter into promiscuous mode and saving information for retrieval la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ts running the sniffer program is compromised using host attack method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4000"/>
          </a:bodyPr>
          <a:p>
            <a:pPr marL="24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your network from being the source of the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each custome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only those packets with source addresses within the customer’s assigned netblocks to enter your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your up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only those packets with source addresses within your netblocks to exit your network, to protect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y those packets with source addresses within your netblocks from coming into your network, to protect your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moves the possibility of your network being used as an attack source for many attacks which rely on anonym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0000"/>
          </a:bodyPr>
          <a:p>
            <a:pPr marL="23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being a “bounce site” in a “Smurf”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directed broadcasts to networ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:  Interface command “no ip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on:  IP protocol configuration “disable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 Networks:  Set a false static ARP address for bcast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ccess control lists (if necessary) to prevent ICMP echo requests from entering you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vendors to turn off replies for ICMP echos to broadcast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Requirements RFC-1122 Section 3.2.2.6 states “An ICMP Echo Request destined to an IP broadcast or IP multicast address MAY be silently discarded.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es are available for free UNIX-ish operating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cal help tips for Cisco rout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gID CSCdj35407 - “fast drop” ACL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gID CSCdj35856 - ACL logging thrott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icast RPF check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provider Co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ies from the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sh proper procedures for getting filters put in place and tracing star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9000"/>
          </a:bodyPr>
          <a:p>
            <a:pPr marL="230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on “smurf”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quadrunner.com/~chuegen/smurf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s filter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ds.internic.net/internet-drafts/draft-ferguson-ingress-filtering-03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I’s DoSTracker to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security.mci.net/dostracker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S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TCP SYN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4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UDP Diagnostic Port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3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lvl="1" marL="5716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ig Hue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cisco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7000"/>
          </a:bodyPr>
          <a:p>
            <a:pPr marL="25380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ific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in network-based DoS attacks over the last yea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rs’ growing accessibility to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number of organizations connected to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networks have not implemented spoof prevention 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ittle protection currently implemented against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es of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Tra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Relay C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cked super-user account on well-connected enterpris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user account on university residence hall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-away” PPP dial-up accou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C Users, Operators, and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 who eliminate troublesome users’ accou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5000"/>
          </a:bodyPr>
          <a:p>
            <a:pPr marL="24804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vent another user from using network 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urf” attacks, “pepsi” (UDP floods), ping flo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able a host or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”, “Teardrop”, “Bonk”, “Boink”, SYN flooding, “Ping of death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ffic monito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2000"/>
          </a:bodyPr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ry dangerous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-based, fills access pi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ICMP echo/reply packets with broadcast networks to multiply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he ability to send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uses “bounce-sites” to attack victi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ultiplied by a factor of 50 to 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-bandwidth source can kill high-bandwidth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ilar to ping flooding, UDP flooding but more dangerous due to traffic multipl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 (cont’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49480" y="1447920"/>
          <a:ext cx="499572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447920"/>
                    <a:ext cx="49957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 tre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8000"/>
          </a:bodyPr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murf attacks are still “in style” for attack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ificant advances made in reducing the effe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campaigns through the use of white paper and other education by NOCs has reduced the average “smurf” attack from 80 Mbits/sec to 5 Mbit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st attacks can still inundate a T1 lin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9000"/>
          </a:bodyPr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severely impair or disable a host or its IP st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s address and port pair to itsel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ability to spoof packet source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victim’s network to be unprotected against packets coming from outside with own IP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drop”, “Bonk”, “Boink”, “Ping of Dea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severely impair or disable a host or its IP st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packet fragmentation and reassembly vulnerabilit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 that a host IP stack be able to receive a packet from an attack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06:16:55Z</dcterms:created>
  <dc:creator>Craig A. Huegen</dc:creator>
  <dc:description/>
  <dc:language>en-US</dc:language>
  <cp:lastModifiedBy>Craig A. Huegen</cp:lastModifiedBy>
  <cp:lastPrinted>1998-02-06T06:00:34Z</cp:lastPrinted>
  <dcterms:modified xsi:type="dcterms:W3CDTF">2000-03-05T21:27:06Z</dcterms:modified>
  <cp:revision>23845</cp:revision>
  <dc:subject/>
  <dc:title>Network-Based Denial of Service Attacks</dc:title>
</cp:coreProperties>
</file>