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636720"/>
            <a:ext cx="769932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56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0680" y="1447560"/>
            <a:ext cx="3756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636720"/>
            <a:ext cx="3756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30680" y="3636720"/>
            <a:ext cx="3756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478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88600" y="1447560"/>
            <a:ext cx="2478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92120" y="1447560"/>
            <a:ext cx="2478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636720"/>
            <a:ext cx="2478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88600" y="3636720"/>
            <a:ext cx="2478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92120" y="3636720"/>
            <a:ext cx="2478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87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5696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680" y="1447560"/>
            <a:ext cx="375696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26840" y="220320"/>
            <a:ext cx="7623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87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56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0680" y="1447560"/>
            <a:ext cx="375696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636720"/>
            <a:ext cx="3756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5696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0680" y="1447560"/>
            <a:ext cx="3756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30680" y="3636720"/>
            <a:ext cx="3756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56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0680" y="1447560"/>
            <a:ext cx="3756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636720"/>
            <a:ext cx="769932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3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 fontScale="93000"/>
          </a:bodyPr>
          <a:p>
            <a:pPr marL="271440" indent="-271440">
              <a:lnSpc>
                <a:spcPct val="93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31360">
              <a:lnSpc>
                <a:spcPct val="93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03160">
              <a:lnSpc>
                <a:spcPct val="93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62720">
              <a:lnSpc>
                <a:spcPct val="93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334160">
              <a:lnSpc>
                <a:spcPct val="93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334160">
              <a:lnSpc>
                <a:spcPct val="93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334160">
              <a:lnSpc>
                <a:spcPct val="93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481640" y="2967120"/>
            <a:ext cx="180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669960" cy="974880"/>
            <a:chOff x="0" y="0"/>
            <a:chExt cx="669960" cy="974880"/>
          </a:xfrm>
        </p:grpSpPr>
        <p:sp>
          <p:nvSpPr>
            <p:cNvPr id="4" name=""/>
            <p:cNvSpPr/>
            <p:nvPr/>
          </p:nvSpPr>
          <p:spPr>
            <a:xfrm>
              <a:off x="6480" y="6480"/>
              <a:ext cx="655560" cy="7063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45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480" y="471600"/>
              <a:ext cx="655560" cy="49536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45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2880" y="465120"/>
              <a:ext cx="664920" cy="0"/>
            </a:xfrm>
            <a:prstGeom prst="line">
              <a:avLst/>
            </a:prstGeom>
            <a:ln w="25560">
              <a:solidFill>
                <a:srgbClr val="0045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669960" cy="974880"/>
            </a:xfrm>
            <a:custGeom>
              <a:avLst/>
              <a:gdLst/>
              <a:ahLst/>
              <a:rect l="l" t="t" r="r" b="b"/>
              <a:pathLst>
                <a:path w="422" h="614">
                  <a:moveTo>
                    <a:pt x="0" y="613"/>
                  </a:moveTo>
                  <a:lnTo>
                    <a:pt x="421" y="613"/>
                  </a:lnTo>
                  <a:lnTo>
                    <a:pt x="421" y="0"/>
                  </a:lnTo>
                </a:path>
              </a:pathLst>
            </a:custGeom>
            <a:noFill/>
            <a:ln cap="rnd" w="25560">
              <a:solidFill>
                <a:srgbClr val="00455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3657600" y="6613560"/>
            <a:ext cx="2666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aig A. Huegen &lt;chuegen@cisco.com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613560"/>
            <a:ext cx="3809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-Based Denial of Service Attac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001000" y="661356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NOG 12     </a:t>
            </a:r>
            <a:fld id="{52F659B4-558A-4F46-B796-FD6D55A68C5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7650000" y="5911920"/>
            <a:ext cx="1239840" cy="70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00240" y="1911240"/>
            <a:ext cx="7524720" cy="118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etwork-Based Denial of Service Attack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00240" y="2974680"/>
            <a:ext cx="6456240" cy="17780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nds, Descriptions, and How to Protect Your Net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aig A. Huegen &lt;chuegen@cisco.com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sco Systems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NOG 12 Interprovider Operations BO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880" y="3240"/>
            <a:ext cx="1051200" cy="6840360"/>
            <a:chOff x="2880" y="3240"/>
            <a:chExt cx="1051200" cy="6840360"/>
          </a:xfrm>
        </p:grpSpPr>
        <p:sp>
          <p:nvSpPr>
            <p:cNvPr id="51" name=""/>
            <p:cNvSpPr/>
            <p:nvPr/>
          </p:nvSpPr>
          <p:spPr>
            <a:xfrm>
              <a:off x="6480" y="6480"/>
              <a:ext cx="1041120" cy="248580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45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80" y="2070000"/>
              <a:ext cx="1041120" cy="7351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45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54080" y="3240"/>
              <a:ext cx="0" cy="6840360"/>
            </a:xfrm>
            <a:prstGeom prst="line">
              <a:avLst/>
            </a:prstGeom>
            <a:ln w="25560">
              <a:solidFill>
                <a:srgbClr val="0045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880" y="2066760"/>
              <a:ext cx="1042920" cy="0"/>
            </a:xfrm>
            <a:prstGeom prst="line">
              <a:avLst/>
            </a:prstGeom>
            <a:ln w="25560">
              <a:solidFill>
                <a:srgbClr val="0045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2880" y="2811600"/>
              <a:ext cx="1042920" cy="0"/>
            </a:xfrm>
            <a:prstGeom prst="line">
              <a:avLst/>
            </a:prstGeom>
            <a:ln w="25560">
              <a:solidFill>
                <a:srgbClr val="0045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7696080" y="6643800"/>
            <a:ext cx="106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80209_dos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50000" y="5911920"/>
            <a:ext cx="1239840" cy="70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 flood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marL="291960" indent="-29196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al is to deny access to a TCP service running on a hos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eates a number of half-open TCP connections which fill up a host’s listen queue; host stops accepting connec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quires the TCP service be open to connections from the victi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niff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 fontScale="97000"/>
          </a:bodyPr>
          <a:p>
            <a:pPr marL="282960" indent="-28296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al is generally to obtain inform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unt usernames, passwo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rce code, business critical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ually a program placing an Ethernet adapter into promiscuous mode and saving information for retrieval la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osts running the sniffer program is compromised using host attack methods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vention Techniq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 fontScale="84000"/>
          </a:bodyPr>
          <a:p>
            <a:pPr marL="24516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5160" indent="-24516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o prevent your network from being the source of the attac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8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y filters to each customer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540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 only those packets with source addresses within the customer’s assigned netblocks to enter your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98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y filters to your upstre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540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 only those packets with source addresses within your netblocks to exit your network, to protect oth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540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y those packets with source addresses within your netblocks from coming into your network, to protect your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5160" indent="-24516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removes the possibility of your network being used as an attack source for many attacks which rely on anonym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vention Techniq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 fontScale="80000"/>
          </a:bodyPr>
          <a:p>
            <a:pPr marL="23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o prevent being a “bounce site” in a “Smurf” attac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off directed broadcasts to network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908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sco:  Interface command “no ip directed-broadcast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908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eon:  IP protocol configuration “disable directed-broadcast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908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y Networks:  Set a false static ARP address for bcast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ccess control lists (if necessary) to prevent ICMP echo requests from entering your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courage vendors to turn off replies for ICMP echos to broadcast addr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908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 Requirements RFC-1122 Section 3.2.2.6 states “An ICMP Echo Request destined to an IP broadcast or IP multicast address MAY be silently discarded.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908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tches are available for free UNIX-ish operating system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vention Techniq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marL="291960" indent="-29196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echnical help tips for Cisco route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gID CSCdj35407 - “fast drop” ACL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gID CSCdj35856 - ACL logging throttl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nicast RPF check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provider Cooper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ories from the fiel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ublish proper procedures for getting filters put in place and tracing star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 fontScale="79000"/>
          </a:bodyPr>
          <a:p>
            <a:pPr marL="230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400" indent="-23040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te paper on “smurf” attack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1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quadrunner.com/~chuegen/smurf.t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400" indent="-23040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gress filter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14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tp://ds.internic.net/internet-drafts/draft-ferguson-ingress-filtering-03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400" indent="-23040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CI’s DoSTracker too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14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security.mci.net/dostracker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400" indent="-23040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DoS attack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14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ining Strategies to Protect Against TCP SYN Denial of Service Attacks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220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cisco.com/warp/public/707/4.ht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14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ining Strategies to Protect Against UDP Diagnostic Port Denial of Service Attacks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220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cisco.com/warp/public/707/3.ht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lvl="1" marL="57168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aig Hue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chuegen@cisco.com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95000"/>
              </a:lnSpc>
              <a:spcBef>
                <a:spcPts val="6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en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 fontScale="87000"/>
          </a:bodyPr>
          <a:p>
            <a:pPr marL="253800"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gnifica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crease in network-based DoS attacks over the last yea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97160"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ackers’ growing accessibility to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7160"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ing number of organizations connected to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ulnerabilit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97160"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networks have not implemented spoof prevention fil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7160"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little protection currently implemented against atta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files of Participa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marL="291960" indent="-291960">
              <a:lnSpc>
                <a:spcPct val="95000"/>
              </a:lnSpc>
              <a:spcBef>
                <a:spcPts val="2001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ols of the Tra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nym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Relay C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cked super-user account on well-connected enterprise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-user account on university residence hall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w-away” PPP dial-up accou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2001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ical Victi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C Users, Operators, and Serv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rs who eliminate troublesome users’ accou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als of Atta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 fontScale="85000"/>
          </a:bodyPr>
          <a:p>
            <a:pPr marL="248040"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event another user from using network connec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urf” attacks, “pepsi” (UDP floods), ping flo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able a host or ser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d”, “Teardrop”, “Bonk”, “Boink”, SYN flooding, “Ping of death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affic monito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iff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murfing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 fontScale="92000"/>
          </a:bodyPr>
          <a:p>
            <a:pPr marL="268560" indent="-268560">
              <a:lnSpc>
                <a:spcPct val="95000"/>
              </a:lnSpc>
              <a:spcBef>
                <a:spcPts val="162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ery dangerous attack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-based, fills access pip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s ICMP echo/reply packets with broadcast networks to multiply traff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s the ability to send spoofed pack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5000"/>
              </a:lnSpc>
              <a:spcBef>
                <a:spcPts val="162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buses “bounce-sites” to attack victi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ffic multiplied by a factor of 50 to 2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-bandwidth source can kill high-bandwidth conne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5000"/>
              </a:lnSpc>
              <a:spcBef>
                <a:spcPts val="162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milar to ping flooding, UDP flooding but more dangerous due to traffic multiplic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murfing” (cont’d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049480" y="1447920"/>
          <a:ext cx="4995720" cy="42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9480" y="1447920"/>
                    <a:ext cx="4995720" cy="42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murfing” tren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 fontScale="98000"/>
          </a:bodyPr>
          <a:p>
            <a:pPr marL="285840" indent="-28584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murf attacks are still “in style” for attacke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gnificant advances made in reducing the effe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ucation campaigns through the use of white paper and other education by NOCs has reduced the average “smurf” attack from 80 Mbits/sec to 5 Mbits/s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st attacks can still inundate a T1 lin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nd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 fontScale="99000"/>
          </a:bodyPr>
          <a:p>
            <a:pPr marL="288720" indent="-28872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al is to severely impair or disable a host or its IP stac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720" indent="-28872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nects address and port pair to itself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720" indent="-28872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quires the ability to spoof packet source address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720" indent="-28872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quires the victim’s network to be unprotected against packets coming from outside with own IP address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ardrop”, “Bonk”, “Boink”, “Ping of Death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marL="291960" indent="-29196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al is to severely impair or disable a host or its IP stac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e packet fragmentation and reassembly vulnerabilit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quire that a host IP stack be able to receive a packet from an attack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2T06:16:55Z</dcterms:created>
  <dc:creator>Craig A. Huegen</dc:creator>
  <dc:description/>
  <dc:language>en-US</dc:language>
  <cp:lastModifiedBy>Craig A. Huegen</cp:lastModifiedBy>
  <cp:lastPrinted>1998-02-06T06:00:34Z</cp:lastPrinted>
  <dcterms:modified xsi:type="dcterms:W3CDTF">2000-03-05T21:27:06Z</dcterms:modified>
  <cp:revision>23845</cp:revision>
  <dc:subject/>
  <dc:title>Network-Based Denial of Service Attacks</dc:title>
</cp:coreProperties>
</file>