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B761-0C11-490B-9579-B02D6245F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F20F-705D-4A02-AA94-7A9839229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C614-74FB-48BC-BAAF-316CCFF57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98CB-4659-4975-B55B-2E841256D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91804-8B20-45F8-AD01-EFFA8D6D2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08D03-1791-400E-A4CB-D5B6E95AB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88FB7-4167-4852-B54B-D8881F80F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5C4A8-AD70-446F-B917-2FC38FFA8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947CC-4C68-4C81-9EF0-20AA5AB73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0644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A5DBB-8240-4168-8BD3-DBC880C11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86C38-E1E6-4EE9-BEA9-9A563003F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C591-1B84-4835-9195-791FB0D73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D0B73-8CAB-4F9B-8BA2-A9584A54C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8E4B4-B1F6-4FB4-BB9F-D1ED0BB69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5EA65-B17B-4515-A098-9E1BB00D4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33D2D-850A-4C19-AE4E-256D8B576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8E12C-9F2B-49AB-8701-277CE7DE8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892D-3159-4CC7-81DA-DAB05ADBE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1362-32ED-4134-97F2-18C4A2241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F1D0-252A-46BF-899A-08A8E54EA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1248-9568-460E-832B-91DCC3BDB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FB2A-8BCC-4005-9DB6-CF5708A33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DB43-94B0-4653-8428-EEBFAEA37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7AD5-F2A5-428A-9B8D-8912F4650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11D02-8F77-4D38-AB3D-2E5FE4A7E3C2}" type="slidenum">
              <a:rPr b="0" lang="en-US" sz="10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371600"/>
            <a:ext cx="86868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772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F8905-5799-4CB0-8EA6-59B71B84722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66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Smb@research.att.com" TargetMode="External"/><Relationship Id="rId2" Type="http://schemas.openxmlformats.org/officeDocument/2006/relationships/hyperlink" Target="http://www.research.att.com/~smb" TargetMode="External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cert.org/reports/dsit_workshop.pdf" TargetMode="External"/><Relationship Id="rId2" Type="http://schemas.openxmlformats.org/officeDocument/2006/relationships/hyperlink" Target="http://staff.washington.edu/dittrich/misc/trinoo.analysis" TargetMode="External"/><Relationship Id="rId3" Type="http://schemas.openxmlformats.org/officeDocument/2006/relationships/hyperlink" Target="http://staff.washington.edu/dittrich/misc/tfn.analysis" TargetMode="External"/><Relationship Id="rId4" Type="http://schemas.openxmlformats.org/officeDocument/2006/relationships/hyperlink" Target="http://staff.washington.edu/dittrich/misc/stacheldraht.analysis" TargetMode="External"/><Relationship Id="rId5" Type="http://schemas.openxmlformats.org/officeDocument/2006/relationships/hyperlink" Target="http://staff.washington.edu/dittrich/misc/stacheldraht.analysis" TargetMode="External"/><Relationship Id="rId6" Type="http://schemas.openxmlformats.org/officeDocument/2006/relationships/hyperlink" Target="http://staff.washington.edu/dittrich/misc/stacheldraht.analysis" TargetMode="External"/><Relationship Id="rId7" Type="http://schemas.openxmlformats.org/officeDocument/2006/relationships/hyperlink" Target="http://staff.washington.edu/dittrich/misc/stacheldraht.analysis" TargetMode="External"/><Relationship Id="rId8" Type="http://schemas.openxmlformats.org/officeDocument/2006/relationships/hyperlink" Target="http://staff.washington.edu/dittrich/misc/stacheldraht.analysis" TargetMode="External"/><Relationship Id="rId9" Type="http://schemas.openxmlformats.org/officeDocument/2006/relationships/hyperlink" Target="http://staff.washington.edu/dittrich/misc/stacheldraht.analysis" TargetMode="External"/><Relationship Id="rId10" Type="http://schemas.openxmlformats.org/officeDocument/2006/relationships/hyperlink" Target="http://staff.washington.edu/dittrich/misc/stacheldraht.analysis" TargetMode="External"/><Relationship Id="rId11" Type="http://schemas.openxmlformats.org/officeDocument/2006/relationships/hyperlink" Target="http://staff.washington.edu/dittrich/misc/stacheldraht.analysis" TargetMode="External"/><Relationship Id="rId12" Type="http://schemas.openxmlformats.org/officeDocument/2006/relationships/hyperlink" Target="http://staff.washington.edu/dittrich/misc/stacheldraht.analysis" TargetMode="External"/><Relationship Id="rId13" Type="http://schemas.openxmlformats.org/officeDocument/2006/relationships/hyperlink" Target="http://staff.washington.edu/dittrich/misc/stacheldraht.analysis" TargetMode="External"/><Relationship Id="rId14" Type="http://schemas.openxmlformats.org/officeDocument/2006/relationships/hyperlink" Target="http://staff.washington.edu/dittrich/misc/stacheldraht.analysis" TargetMode="External"/><Relationship Id="rId15" Type="http://schemas.openxmlformats.org/officeDocument/2006/relationships/hyperlink" Target="http://www.fbi.gov/nipc/trinoo.htm" TargetMode="External"/><Relationship Id="rId16" Type="http://schemas.openxmlformats.org/officeDocument/2006/relationships/hyperlink" Target="http://www.fbi.gov/nipc/trinoo.htm" TargetMode="External"/><Relationship Id="rId1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772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Distributed Denial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of Service Attacks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295280" y="3657240"/>
            <a:ext cx="6400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Steven M. Bellovin</a:t>
            </a:r>
            <a:endParaRPr b="0" lang="en-US" sz="3200" spc="-1" strike="noStrike">
              <a:solidFill>
                <a:srgbClr val="0066ff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smb@research.att.com</a:t>
            </a:r>
            <a:endParaRPr b="0" lang="en-US" sz="3200" spc="-1" strike="noStrike">
              <a:solidFill>
                <a:srgbClr val="0066ff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www.research.att.com/~smb</a:t>
            </a:r>
            <a:endParaRPr b="0" lang="en-US" sz="3200" spc="-1" strike="noStrike">
              <a:solidFill>
                <a:srgbClr val="0066ff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19537-CE63-4466-8812-DBDE55A1C9F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Arial"/>
              </a:rPr>
              <a:t>Can We Do Better Some Day?</a:t>
            </a:r>
            <a:endParaRPr b="0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ICMP Traceback message.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Enhance newer congestion control techniques, i.e., RED.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  </a:t>
            </a:r>
            <a:r>
              <a:rPr b="0" i="1" lang="en-US" sz="3200" spc="-1" strike="noStrike">
                <a:solidFill>
                  <a:srgbClr val="000099"/>
                </a:solidFill>
                <a:latin typeface="Tahoma"/>
              </a:rPr>
              <a:t>Warning – both of these are untested ideas. The second is a research topic.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F473-AD55-484A-B957-AFE8BB1FB10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Arial"/>
              </a:rPr>
              <a:t>ICMP Traceback</a:t>
            </a:r>
            <a:endParaRPr b="0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For a very few packets (about 1 in 20,000), each router will send the destination a new ICMP message indicating the </a:t>
            </a:r>
            <a:r>
              <a:rPr b="0" i="1" lang="en-US" sz="2800" spc="-1" strike="noStrike">
                <a:solidFill>
                  <a:srgbClr val="000099"/>
                </a:solidFill>
                <a:latin typeface="Tahoma"/>
              </a:rPr>
              <a:t>previous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hop for that packet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Net traffic increase at endpoint is about .1% -- probably acceptable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Issues: authentication, loss of traceback packets, load on routers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5DD8-0C0B-44A4-A534-208C64970A5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Arial"/>
              </a:rPr>
              <a:t>Enhanced Congestion Control</a:t>
            </a:r>
            <a:endParaRPr b="0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Define an attack as “too many packets drops on a particular access line”.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Send upstream node a message telling it to drop more packets for this destination.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Traditional RED+penalty box works on flows; this works on destination alone.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Issues: authentication, fairness, effect on legitimate traffic, implementability, etc.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F9C2-E078-4740-B03F-2A48EE845B3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From CERT:  CA-99-17, CA-2000-01, IN-99-07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6633"/>
                </a:solidFill>
                <a:uFillTx/>
                <a:latin typeface="Tahoma"/>
                <a:hlinkClick r:id="rId1"/>
              </a:rPr>
              <a:t>http://www.cert.org/reports/dsit_workshop.pdf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Dave Dittrich’s analyses: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hlinkClick r:id="rId2"/>
              </a:rPr>
              <a:t>http://staff.washington.edu/dittrich/misc/trinoo.analysis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hlinkClick r:id="rId3"/>
              </a:rPr>
              <a:t>http://staff.washington.edu/dittrich/misc/tfn.analysis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hlinkClick r:id="rId4"/>
              </a:rPr>
              <a:t>http://staff.</a:t>
            </a: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hlinkClick r:id="rId5"/>
              </a:rPr>
              <a:t>washington</a:t>
            </a: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hlinkClick r:id="rId6"/>
              </a:rPr>
              <a:t>.</a:t>
            </a: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hlinkClick r:id="rId7"/>
              </a:rPr>
              <a:t>edu</a:t>
            </a: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hlinkClick r:id="rId8"/>
              </a:rPr>
              <a:t>/</a:t>
            </a: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hlinkClick r:id="rId9"/>
              </a:rPr>
              <a:t>dittrich</a:t>
            </a: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hlinkClick r:id="rId10"/>
              </a:rPr>
              <a:t>/</a:t>
            </a: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hlinkClick r:id="rId11"/>
              </a:rPr>
              <a:t>misc</a:t>
            </a: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hlinkClick r:id="rId12"/>
              </a:rPr>
              <a:t>/</a:t>
            </a: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hlinkClick r:id="rId13"/>
              </a:rPr>
              <a:t>stacheldraht</a:t>
            </a: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hlinkClick r:id="rId14"/>
              </a:rPr>
              <a:t>.analysis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Scanning tool: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 u="sng">
                <a:solidFill>
                  <a:srgbClr val="996633"/>
                </a:solidFill>
                <a:uFillTx/>
                <a:latin typeface="Tahoma"/>
                <a:hlinkClick r:id="rId15"/>
              </a:rPr>
              <a:t>http://www.fbi.gov/nipc/trinoo.</a:t>
            </a:r>
            <a:r>
              <a:rPr b="0" lang="en-US" sz="2800" spc="-1" strike="noStrike" u="sng">
                <a:solidFill>
                  <a:srgbClr val="996633"/>
                </a:solidFill>
                <a:uFillTx/>
                <a:latin typeface="Tahoma"/>
                <a:hlinkClick r:id="rId16"/>
              </a:rPr>
              <a:t>htm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IDS vendors, ICSA, etc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66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EAD5-29B4-414E-90A3-D455F20CD86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Arial"/>
              </a:rPr>
              <a:t>What Are DDoS Tools?</a:t>
            </a:r>
            <a:endParaRPr b="0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Clog victim’s network.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Use many sources (“daemons”) for attacking traffic.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Use “master” machines to control the daemon attackers.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At least 4 different versions in use:  TFN, TFN2K, Trinoo, Stacheldraht.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F7EE-13DF-49D7-ADB4-54BB1E25815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Arial"/>
              </a:rPr>
              <a:t>How They Work</a:t>
            </a:r>
            <a:endParaRPr b="0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24080" y="2514600"/>
            <a:ext cx="2486160" cy="1827360"/>
          </a:xfrm>
          <a:custGeom>
            <a:avLst/>
            <a:gdLst/>
            <a:ahLst/>
            <a:rect l="l" t="t" r="r" b="b"/>
            <a:pathLst>
              <a:path w="2235" h="1642">
                <a:moveTo>
                  <a:pt x="292" y="585"/>
                </a:moveTo>
                <a:cubicBezTo>
                  <a:pt x="252" y="588"/>
                  <a:pt x="211" y="585"/>
                  <a:pt x="172" y="594"/>
                </a:cubicBezTo>
                <a:cubicBezTo>
                  <a:pt x="147" y="600"/>
                  <a:pt x="103" y="628"/>
                  <a:pt x="103" y="628"/>
                </a:cubicBezTo>
                <a:cubicBezTo>
                  <a:pt x="54" y="703"/>
                  <a:pt x="20" y="782"/>
                  <a:pt x="0" y="869"/>
                </a:cubicBezTo>
                <a:cubicBezTo>
                  <a:pt x="6" y="975"/>
                  <a:pt x="1" y="1003"/>
                  <a:pt x="43" y="1084"/>
                </a:cubicBezTo>
                <a:cubicBezTo>
                  <a:pt x="52" y="1122"/>
                  <a:pt x="71" y="1143"/>
                  <a:pt x="86" y="1178"/>
                </a:cubicBezTo>
                <a:cubicBezTo>
                  <a:pt x="90" y="1186"/>
                  <a:pt x="88" y="1197"/>
                  <a:pt x="94" y="1204"/>
                </a:cubicBezTo>
                <a:cubicBezTo>
                  <a:pt x="133" y="1253"/>
                  <a:pt x="171" y="1220"/>
                  <a:pt x="215" y="1299"/>
                </a:cubicBezTo>
                <a:cubicBezTo>
                  <a:pt x="267" y="1393"/>
                  <a:pt x="303" y="1430"/>
                  <a:pt x="404" y="1470"/>
                </a:cubicBezTo>
                <a:cubicBezTo>
                  <a:pt x="423" y="1490"/>
                  <a:pt x="449" y="1517"/>
                  <a:pt x="472" y="1531"/>
                </a:cubicBezTo>
                <a:cubicBezTo>
                  <a:pt x="480" y="1536"/>
                  <a:pt x="490" y="1536"/>
                  <a:pt x="498" y="1539"/>
                </a:cubicBezTo>
                <a:cubicBezTo>
                  <a:pt x="510" y="1544"/>
                  <a:pt x="522" y="1549"/>
                  <a:pt x="533" y="1556"/>
                </a:cubicBezTo>
                <a:cubicBezTo>
                  <a:pt x="580" y="1585"/>
                  <a:pt x="598" y="1629"/>
                  <a:pt x="653" y="1642"/>
                </a:cubicBezTo>
                <a:cubicBezTo>
                  <a:pt x="916" y="1638"/>
                  <a:pt x="1154" y="1632"/>
                  <a:pt x="1410" y="1617"/>
                </a:cubicBezTo>
                <a:cubicBezTo>
                  <a:pt x="1450" y="1605"/>
                  <a:pt x="1490" y="1593"/>
                  <a:pt x="1530" y="1582"/>
                </a:cubicBezTo>
                <a:cubicBezTo>
                  <a:pt x="1575" y="1570"/>
                  <a:pt x="1627" y="1572"/>
                  <a:pt x="1667" y="1548"/>
                </a:cubicBezTo>
                <a:cubicBezTo>
                  <a:pt x="1725" y="1513"/>
                  <a:pt x="1758" y="1447"/>
                  <a:pt x="1814" y="1410"/>
                </a:cubicBezTo>
                <a:cubicBezTo>
                  <a:pt x="1837" y="1374"/>
                  <a:pt x="1853" y="1340"/>
                  <a:pt x="1882" y="1307"/>
                </a:cubicBezTo>
                <a:cubicBezTo>
                  <a:pt x="1895" y="1292"/>
                  <a:pt x="1914" y="1281"/>
                  <a:pt x="1925" y="1264"/>
                </a:cubicBezTo>
                <a:cubicBezTo>
                  <a:pt x="1979" y="1178"/>
                  <a:pt x="2009" y="1079"/>
                  <a:pt x="2054" y="989"/>
                </a:cubicBezTo>
                <a:cubicBezTo>
                  <a:pt x="2073" y="951"/>
                  <a:pt x="2111" y="939"/>
                  <a:pt x="2132" y="903"/>
                </a:cubicBezTo>
                <a:cubicBezTo>
                  <a:pt x="2147" y="878"/>
                  <a:pt x="2161" y="852"/>
                  <a:pt x="2175" y="826"/>
                </a:cubicBezTo>
                <a:cubicBezTo>
                  <a:pt x="2181" y="815"/>
                  <a:pt x="2192" y="791"/>
                  <a:pt x="2192" y="791"/>
                </a:cubicBezTo>
                <a:cubicBezTo>
                  <a:pt x="2204" y="730"/>
                  <a:pt x="2216" y="699"/>
                  <a:pt x="2235" y="645"/>
                </a:cubicBezTo>
                <a:cubicBezTo>
                  <a:pt x="2232" y="614"/>
                  <a:pt x="2232" y="582"/>
                  <a:pt x="2226" y="551"/>
                </a:cubicBezTo>
                <a:cubicBezTo>
                  <a:pt x="2200" y="424"/>
                  <a:pt x="1975" y="459"/>
                  <a:pt x="1908" y="456"/>
                </a:cubicBezTo>
                <a:cubicBezTo>
                  <a:pt x="1891" y="450"/>
                  <a:pt x="1869" y="445"/>
                  <a:pt x="1857" y="430"/>
                </a:cubicBezTo>
                <a:cubicBezTo>
                  <a:pt x="1821" y="385"/>
                  <a:pt x="1848" y="311"/>
                  <a:pt x="1805" y="267"/>
                </a:cubicBezTo>
                <a:cubicBezTo>
                  <a:pt x="1774" y="235"/>
                  <a:pt x="1770" y="241"/>
                  <a:pt x="1728" y="232"/>
                </a:cubicBezTo>
                <a:cubicBezTo>
                  <a:pt x="1668" y="203"/>
                  <a:pt x="1611" y="196"/>
                  <a:pt x="1547" y="181"/>
                </a:cubicBezTo>
                <a:cubicBezTo>
                  <a:pt x="1522" y="175"/>
                  <a:pt x="1429" y="148"/>
                  <a:pt x="1427" y="147"/>
                </a:cubicBezTo>
                <a:cubicBezTo>
                  <a:pt x="1415" y="141"/>
                  <a:pt x="1405" y="132"/>
                  <a:pt x="1392" y="129"/>
                </a:cubicBezTo>
                <a:cubicBezTo>
                  <a:pt x="1333" y="114"/>
                  <a:pt x="1264" y="110"/>
                  <a:pt x="1203" y="104"/>
                </a:cubicBezTo>
                <a:cubicBezTo>
                  <a:pt x="1153" y="87"/>
                  <a:pt x="1140" y="40"/>
                  <a:pt x="1091" y="18"/>
                </a:cubicBezTo>
                <a:cubicBezTo>
                  <a:pt x="1075" y="11"/>
                  <a:pt x="1040" y="0"/>
                  <a:pt x="1040" y="0"/>
                </a:cubicBezTo>
                <a:cubicBezTo>
                  <a:pt x="1003" y="3"/>
                  <a:pt x="965" y="2"/>
                  <a:pt x="928" y="9"/>
                </a:cubicBezTo>
                <a:cubicBezTo>
                  <a:pt x="901" y="14"/>
                  <a:pt x="851" y="35"/>
                  <a:pt x="851" y="35"/>
                </a:cubicBezTo>
                <a:cubicBezTo>
                  <a:pt x="839" y="44"/>
                  <a:pt x="829" y="54"/>
                  <a:pt x="816" y="61"/>
                </a:cubicBezTo>
                <a:cubicBezTo>
                  <a:pt x="808" y="65"/>
                  <a:pt x="798" y="64"/>
                  <a:pt x="791" y="69"/>
                </a:cubicBezTo>
                <a:cubicBezTo>
                  <a:pt x="762" y="89"/>
                  <a:pt x="746" y="125"/>
                  <a:pt x="730" y="155"/>
                </a:cubicBezTo>
                <a:cubicBezTo>
                  <a:pt x="726" y="189"/>
                  <a:pt x="724" y="256"/>
                  <a:pt x="696" y="284"/>
                </a:cubicBezTo>
                <a:cubicBezTo>
                  <a:pt x="636" y="344"/>
                  <a:pt x="498" y="316"/>
                  <a:pt x="447" y="318"/>
                </a:cubicBezTo>
                <a:cubicBezTo>
                  <a:pt x="390" y="321"/>
                  <a:pt x="332" y="324"/>
                  <a:pt x="275" y="327"/>
                </a:cubicBezTo>
                <a:cubicBezTo>
                  <a:pt x="222" y="334"/>
                  <a:pt x="186" y="346"/>
                  <a:pt x="137" y="361"/>
                </a:cubicBezTo>
                <a:cubicBezTo>
                  <a:pt x="118" y="374"/>
                  <a:pt x="83" y="402"/>
                  <a:pt x="111" y="430"/>
                </a:cubicBezTo>
                <a:cubicBezTo>
                  <a:pt x="119" y="438"/>
                  <a:pt x="179" y="447"/>
                  <a:pt x="180" y="447"/>
                </a:cubicBezTo>
                <a:cubicBezTo>
                  <a:pt x="212" y="454"/>
                  <a:pt x="243" y="466"/>
                  <a:pt x="275" y="473"/>
                </a:cubicBezTo>
                <a:cubicBezTo>
                  <a:pt x="286" y="485"/>
                  <a:pt x="311" y="503"/>
                  <a:pt x="309" y="525"/>
                </a:cubicBezTo>
                <a:cubicBezTo>
                  <a:pt x="307" y="543"/>
                  <a:pt x="292" y="576"/>
                  <a:pt x="292" y="576"/>
                </a:cubicBezTo>
                <a:cubicBezTo>
                  <a:pt x="326" y="588"/>
                  <a:pt x="327" y="585"/>
                  <a:pt x="292" y="585"/>
                </a:cubicBezTo>
                <a:close/>
              </a:path>
            </a:pathLst>
          </a:custGeom>
          <a:solidFill>
            <a:srgbClr val="ffff66"/>
          </a:solidFill>
          <a:ln w="936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657600" y="5029200"/>
            <a:ext cx="1371600" cy="60948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Victim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248520" y="3581280"/>
            <a:ext cx="1295280" cy="4572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aemon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029200" y="1600200"/>
            <a:ext cx="1295280" cy="4572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aemon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553080" y="2590920"/>
            <a:ext cx="1219320" cy="4572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aemon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447920" y="2895480"/>
            <a:ext cx="1295280" cy="4572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aemon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523880" y="4343400"/>
            <a:ext cx="1295640" cy="4572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aemon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267080" y="4343040"/>
            <a:ext cx="0" cy="68580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514600" y="3772080"/>
            <a:ext cx="1828800" cy="1180800"/>
          </a:xfrm>
          <a:custGeom>
            <a:avLst/>
            <a:gdLst/>
            <a:ahLst/>
            <a:rect l="l" t="t" r="r" b="b"/>
            <a:pathLst>
              <a:path w="1152" h="744">
                <a:moveTo>
                  <a:pt x="0" y="408"/>
                </a:moveTo>
                <a:cubicBezTo>
                  <a:pt x="224" y="228"/>
                  <a:pt x="448" y="48"/>
                  <a:pt x="624" y="24"/>
                </a:cubicBezTo>
                <a:cubicBezTo>
                  <a:pt x="800" y="0"/>
                  <a:pt x="968" y="144"/>
                  <a:pt x="1056" y="264"/>
                </a:cubicBezTo>
                <a:cubicBezTo>
                  <a:pt x="1144" y="384"/>
                  <a:pt x="1148" y="564"/>
                  <a:pt x="1152" y="744"/>
                </a:cubicBezTo>
              </a:path>
            </a:pathLst>
          </a:custGeom>
          <a:noFill/>
          <a:ln w="9360">
            <a:solidFill>
              <a:srgbClr val="0000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3048120"/>
            <a:ext cx="1536840" cy="1981080"/>
          </a:xfrm>
          <a:custGeom>
            <a:avLst/>
            <a:gdLst/>
            <a:ahLst/>
            <a:rect l="l" t="t" r="r" b="b"/>
            <a:pathLst>
              <a:path w="968" h="1248">
                <a:moveTo>
                  <a:pt x="0" y="48"/>
                </a:moveTo>
                <a:cubicBezTo>
                  <a:pt x="236" y="24"/>
                  <a:pt x="472" y="0"/>
                  <a:pt x="624" y="96"/>
                </a:cubicBezTo>
                <a:cubicBezTo>
                  <a:pt x="776" y="192"/>
                  <a:pt x="856" y="448"/>
                  <a:pt x="912" y="624"/>
                </a:cubicBezTo>
                <a:cubicBezTo>
                  <a:pt x="968" y="800"/>
                  <a:pt x="952" y="1056"/>
                  <a:pt x="960" y="1152"/>
                </a:cubicBezTo>
                <a:cubicBezTo>
                  <a:pt x="968" y="1248"/>
                  <a:pt x="964" y="1224"/>
                  <a:pt x="960" y="1200"/>
                </a:cubicBezTo>
              </a:path>
            </a:pathLst>
          </a:custGeom>
          <a:noFill/>
          <a:ln w="9360">
            <a:solidFill>
              <a:srgbClr val="0000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114800" y="1981080"/>
            <a:ext cx="1066680" cy="2971800"/>
          </a:xfrm>
          <a:custGeom>
            <a:avLst/>
            <a:gdLst/>
            <a:ahLst/>
            <a:rect l="l" t="t" r="r" b="b"/>
            <a:pathLst>
              <a:path w="672" h="1872">
                <a:moveTo>
                  <a:pt x="672" y="0"/>
                </a:moveTo>
                <a:cubicBezTo>
                  <a:pt x="556" y="104"/>
                  <a:pt x="440" y="208"/>
                  <a:pt x="336" y="432"/>
                </a:cubicBezTo>
                <a:cubicBezTo>
                  <a:pt x="232" y="656"/>
                  <a:pt x="96" y="1104"/>
                  <a:pt x="48" y="1344"/>
                </a:cubicBezTo>
                <a:cubicBezTo>
                  <a:pt x="0" y="1584"/>
                  <a:pt x="48" y="1784"/>
                  <a:pt x="48" y="1872"/>
                </a:cubicBezTo>
              </a:path>
            </a:pathLst>
          </a:custGeom>
          <a:noFill/>
          <a:ln w="9360">
            <a:solidFill>
              <a:srgbClr val="0000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2590920"/>
            <a:ext cx="2361960" cy="2286000"/>
          </a:xfrm>
          <a:custGeom>
            <a:avLst/>
            <a:gdLst/>
            <a:ahLst/>
            <a:rect l="l" t="t" r="r" b="b"/>
            <a:pathLst>
              <a:path w="1488" h="1400">
                <a:moveTo>
                  <a:pt x="1488" y="104"/>
                </a:moveTo>
                <a:cubicBezTo>
                  <a:pt x="1172" y="52"/>
                  <a:pt x="856" y="0"/>
                  <a:pt x="624" y="152"/>
                </a:cubicBezTo>
                <a:cubicBezTo>
                  <a:pt x="392" y="304"/>
                  <a:pt x="192" y="808"/>
                  <a:pt x="96" y="1016"/>
                </a:cubicBezTo>
                <a:cubicBezTo>
                  <a:pt x="0" y="1224"/>
                  <a:pt x="56" y="1336"/>
                  <a:pt x="48" y="1400"/>
                </a:cubicBezTo>
              </a:path>
            </a:pathLst>
          </a:custGeom>
          <a:noFill/>
          <a:ln w="9360">
            <a:solidFill>
              <a:srgbClr val="0000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343400" y="3517920"/>
            <a:ext cx="1905120" cy="1359000"/>
          </a:xfrm>
          <a:custGeom>
            <a:avLst/>
            <a:gdLst/>
            <a:ahLst/>
            <a:rect l="l" t="t" r="r" b="b"/>
            <a:pathLst>
              <a:path w="1200" h="856">
                <a:moveTo>
                  <a:pt x="1200" y="136"/>
                </a:moveTo>
                <a:cubicBezTo>
                  <a:pt x="972" y="68"/>
                  <a:pt x="744" y="0"/>
                  <a:pt x="576" y="40"/>
                </a:cubicBezTo>
                <a:cubicBezTo>
                  <a:pt x="408" y="80"/>
                  <a:pt x="288" y="240"/>
                  <a:pt x="192" y="376"/>
                </a:cubicBezTo>
                <a:cubicBezTo>
                  <a:pt x="96" y="512"/>
                  <a:pt x="48" y="684"/>
                  <a:pt x="0" y="856"/>
                </a:cubicBezTo>
              </a:path>
            </a:pathLst>
          </a:custGeom>
          <a:noFill/>
          <a:ln w="9360">
            <a:solidFill>
              <a:srgbClr val="0000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133720" y="1752480"/>
            <a:ext cx="114300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Master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361960" y="2286000"/>
            <a:ext cx="228600" cy="60948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3276720" y="1828440"/>
            <a:ext cx="1752480" cy="15228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76720" y="2133720"/>
            <a:ext cx="3429000" cy="53316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2209680"/>
            <a:ext cx="3581640" cy="137160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2438280" y="2286000"/>
            <a:ext cx="609840" cy="205740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400800" y="4800600"/>
            <a:ext cx="1905120" cy="76212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al Attacker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3123720" y="2285640"/>
            <a:ext cx="3581640" cy="243828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0350-C395-46D0-89A5-15DC5213BE4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Arial"/>
              </a:rPr>
              <a:t>How They Talk</a:t>
            </a:r>
            <a:endParaRPr b="0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Trinoo:  attacker uses TCP; masters and daemons use UDP; password authentication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TFN:  attacker uses shell to invoke master; masters and daemons use ICMP ECHOREPLY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Stacheldraht: attacker uses encrypted TCP connection to master; masters and daemons use TCP and ICMP ECHO REPLY; rcp used for auto-update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9A7B-7734-4D70-9A6B-659C67DC31D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Arial"/>
              </a:rPr>
              <a:t>Deploying DDOS</a:t>
            </a:r>
            <a:endParaRPr b="0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Attackers seem to use standard, well-known holes (i.e., rpc.ttdbserver, amd, rpc.cmsd, rpc.mountd, rpc.statd).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They appear to have “auto-hack” tools – point, click, and invade.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Lesson: practice good computer hygiene.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288D-9D1A-4A0B-B7E5-B3DEB4D00B6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Arial"/>
              </a:rPr>
              <a:t>Detecting DDOS Tools</a:t>
            </a:r>
            <a:endParaRPr b="0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Most current IDS’s detect the current generation of tools.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They work by looking for DDOS control messages.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Naturally, these will change over time; in particular, more such messages will be properly encrypted.  (A hacker PKI?)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C8E1-0978-44D7-B331-C28423C53F4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Arial"/>
              </a:rPr>
              <a:t>What are the Strong Defenses?</a:t>
            </a:r>
            <a:endParaRPr b="0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There aren’t any…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984B-B7D1-4EA8-B723-20C7D8F119D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Arial"/>
              </a:rPr>
              <a:t>What Can ISPs Do?</a:t>
            </a:r>
            <a:endParaRPr b="0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Deploy source address anti-spoof filters (</a:t>
            </a:r>
            <a:r>
              <a:rPr b="0" i="1" lang="en-US" sz="2800" spc="-1" strike="noStrike">
                <a:solidFill>
                  <a:srgbClr val="000099"/>
                </a:solidFill>
                <a:latin typeface="Tahoma"/>
              </a:rPr>
              <a:t>very important!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)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Turn off directed broadcasts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Develop security relationships with neighbor ISPs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Set up mechanism for handling customer security complaints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Develop traffic volume monitoring techniques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11DD-7AC6-43E3-93F9-E9B5BCED18F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Arial"/>
              </a:rPr>
              <a:t>Traffic Volume Monitoring</a:t>
            </a:r>
            <a:endParaRPr b="0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Look for too much traffic to a particular destination.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Learn to look for traffic to that destination at your border routers (access routers, peers, exchange points, etc.).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Can we automate the tools – too many queue drops on an access router will trigger source detection?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72FA-00D2-4DFF-8EBE-D9944F04CE4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04T16:30:29Z</dcterms:created>
  <dc:creator>Steve Michael Bellovin</dc:creator>
  <dc:description/>
  <dc:language>en-US</dc:language>
  <cp:lastModifiedBy>Steven M. Bellovin</cp:lastModifiedBy>
  <dcterms:modified xsi:type="dcterms:W3CDTF">2000-02-07T16:50:17Z</dcterms:modified>
  <cp:revision>9</cp:revision>
  <dc:subject/>
  <dc:title>Denial of Service Attack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research.att.com/~smb</vt:lpwstr>
  </property>
  <property fmtid="{D5CDD505-2E9C-101B-9397-08002B2CF9AE}" pid="9" name="LinkColor">
    <vt:r8>16711782</vt:r8>
  </property>
  <property fmtid="{D5CDD505-2E9C-101B-9397-08002B2CF9AE}" pid="10" name="MailAddress">
    <vt:lpwstr>smb@research.att.com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Home\SMB\lib\wwwfil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