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45C-3FEA-4999-853E-84D4BC1D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6D2-9132-4A69-8B74-17605F62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1A1-A572-42B9-870F-F20D1C57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E41-0D7B-463E-852C-615E094C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C23C-E75C-4B1D-987A-55DA7FF6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8AE5-8F61-4675-A0F7-940560F8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FEFD-B238-4BA0-9A7A-365E5843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2816-04FF-4FF1-81EF-E2674C15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AB47-9B3F-45B1-8390-45CADF67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C535-44B7-4DAE-B8F9-0B3EF391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DAF8-542B-4F9D-AF05-70DE63AC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B93-9737-43B2-A416-A8CA0DA1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1060-A980-490A-A3F3-E7892B20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3F54-1365-4791-B870-83F5504A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2D92-9268-45D0-917B-6DD73CD0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5E73-B376-4EAD-876C-D17F2272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FE14-5952-43A2-A347-1C5A2115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F12-DA69-4233-8DD0-CDC32FB9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FAB-85DB-40CA-AADC-91FAD4F6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432-52F6-4DAA-9FF5-DE9678E1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F82-C355-4AD3-BA69-F37FCCCF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748-FA4C-4DE6-B54D-6ABB19E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B2C-0145-462F-BB1D-6C25B59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DF1-65AD-497B-93A4-3FF51B76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EB65-D9CF-4009-BB24-83BD47AA3D0B}" type="slidenum">
              <a:rPr b="0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686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CC32-1DAA-4677-A81D-13C275D6A7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mb@research.att.com" TargetMode="External"/><Relationship Id="rId2" Type="http://schemas.openxmlformats.org/officeDocument/2006/relationships/hyperlink" Target="http://www.research.att.com/~smb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ert.org/reports/dsit_workshop.pdf" TargetMode="External"/><Relationship Id="rId2" Type="http://schemas.openxmlformats.org/officeDocument/2006/relationships/hyperlink" Target="http://staff.washington.edu/dittrich/misc/trinoo.analysis" TargetMode="External"/><Relationship Id="rId3" Type="http://schemas.openxmlformats.org/officeDocument/2006/relationships/hyperlink" Target="http://staff.washington.edu/dittrich/misc/tfn.analysis" TargetMode="External"/><Relationship Id="rId4" Type="http://schemas.openxmlformats.org/officeDocument/2006/relationships/hyperlink" Target="http://staff.washington.edu/dittrich/misc/stacheldraht.analysis" TargetMode="External"/><Relationship Id="rId5" Type="http://schemas.openxmlformats.org/officeDocument/2006/relationships/hyperlink" Target="http://staff.washington.edu/dittrich/misc/stacheldraht.analysis" TargetMode="External"/><Relationship Id="rId6" Type="http://schemas.openxmlformats.org/officeDocument/2006/relationships/hyperlink" Target="http://staff.washington.edu/dittrich/misc/stacheldraht.analysis" TargetMode="External"/><Relationship Id="rId7" Type="http://schemas.openxmlformats.org/officeDocument/2006/relationships/hyperlink" Target="http://staff.washington.edu/dittrich/misc/stacheldraht.analysis" TargetMode="External"/><Relationship Id="rId8" Type="http://schemas.openxmlformats.org/officeDocument/2006/relationships/hyperlink" Target="http://staff.washington.edu/dittrich/misc/stacheldraht.analysis" TargetMode="External"/><Relationship Id="rId9" Type="http://schemas.openxmlformats.org/officeDocument/2006/relationships/hyperlink" Target="http://staff.washington.edu/dittrich/misc/stacheldraht.analysis" TargetMode="External"/><Relationship Id="rId10" Type="http://schemas.openxmlformats.org/officeDocument/2006/relationships/hyperlink" Target="http://staff.washington.edu/dittrich/misc/stacheldraht.analysis" TargetMode="External"/><Relationship Id="rId11" Type="http://schemas.openxmlformats.org/officeDocument/2006/relationships/hyperlink" Target="http://staff.washington.edu/dittrich/misc/stacheldraht.analysis" TargetMode="External"/><Relationship Id="rId12" Type="http://schemas.openxmlformats.org/officeDocument/2006/relationships/hyperlink" Target="http://staff.washington.edu/dittrich/misc/stacheldraht.analysis" TargetMode="External"/><Relationship Id="rId13" Type="http://schemas.openxmlformats.org/officeDocument/2006/relationships/hyperlink" Target="http://staff.washington.edu/dittrich/misc/stacheldraht.analysis" TargetMode="External"/><Relationship Id="rId14" Type="http://schemas.openxmlformats.org/officeDocument/2006/relationships/hyperlink" Target="http://staff.washington.edu/dittrich/misc/stacheldraht.analysis" TargetMode="External"/><Relationship Id="rId15" Type="http://schemas.openxmlformats.org/officeDocument/2006/relationships/hyperlink" Target="http://www.fbi.gov/nipc/trinoo.htm" TargetMode="External"/><Relationship Id="rId16" Type="http://schemas.openxmlformats.org/officeDocument/2006/relationships/hyperlink" Target="http://www.fbi.gov/nipc/trinoo.htm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istributed Deni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f Service Attack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6572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even M. Bellovin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smb@research.att.com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www.research.att.com/~smb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B195-95FB-4C69-903F-1771BBA4CD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an We Do Better Some Day?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CMP Traceback messag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nhance newer congestion control techniques, i.e., RED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Warning – both of these are untested ideas. The second is a research topic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E48-A8F1-47CE-B242-F167444C8F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ICMP Traceback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a very few packets (about 1 in 20,000), each router will send the destination a new ICMP message indicating th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previou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hop for that packet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et traffic increase at endpoint is about .1% -- probably acceptabl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ssues: authentication, loss of traceback packets, load on router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A5F-A069-49E3-91F7-C9CB49FB8A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Enhanced Congestion Control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e an attack as “too many packets drops on a particular access line”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nd upstream node a message telling it to drop more packets for this destination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raditional RED+penalty box works on flows; this works on destination alo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ssues: authentication, fairness, effect on legitimate traffic, implementability, etc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4C2-3B5F-44B6-9B37-8BBE69B60B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rom CERT:  CA-99-17, CA-2000-01, IN-99-07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cert.org/reports/dsit_workshop.pdf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ve Dittrich’s analys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staff.washington.edu/dittrich/misc/trinoo.analysi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staff.washington.edu/dittrich/misc/tfn.analysi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http://staff.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washington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edu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9"/>
              </a:rPr>
              <a:t>dittrich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1"/>
              </a:rPr>
              <a:t>misc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3"/>
              </a:rPr>
              <a:t>stacheldraht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4"/>
              </a:rPr>
              <a:t>.analysi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canning tool: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5"/>
              </a:rPr>
              <a:t>http://www.fbi.gov/nipc/trinoo.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6"/>
              </a:rPr>
              <a:t>ht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DS vendors, ICSA, etc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5E2-7F60-4443-A9BE-EF11E3BF5B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What Are DDoS Tools?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og victim’s network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se many sources (“daemons”) for attacking traffic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se “master” machines to control the daemon attackers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t least 4 different versions in use:  TFN, TFN2K, Trinoo, Stacheldraht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A98-AD43-4347-A919-9EF152542C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ow They Work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514600"/>
            <a:ext cx="2486160" cy="1827360"/>
          </a:xfrm>
          <a:custGeom>
            <a:avLst/>
            <a:gdLst/>
            <a:ahLst/>
            <a:rect l="l" t="t" r="r" b="b"/>
            <a:pathLst>
              <a:path w="2235" h="1642">
                <a:moveTo>
                  <a:pt x="292" y="585"/>
                </a:moveTo>
                <a:cubicBezTo>
                  <a:pt x="252" y="588"/>
                  <a:pt x="211" y="585"/>
                  <a:pt x="172" y="594"/>
                </a:cubicBezTo>
                <a:cubicBezTo>
                  <a:pt x="147" y="600"/>
                  <a:pt x="103" y="628"/>
                  <a:pt x="103" y="628"/>
                </a:cubicBezTo>
                <a:cubicBezTo>
                  <a:pt x="54" y="703"/>
                  <a:pt x="20" y="782"/>
                  <a:pt x="0" y="869"/>
                </a:cubicBezTo>
                <a:cubicBezTo>
                  <a:pt x="6" y="975"/>
                  <a:pt x="1" y="1003"/>
                  <a:pt x="43" y="1084"/>
                </a:cubicBezTo>
                <a:cubicBezTo>
                  <a:pt x="52" y="1122"/>
                  <a:pt x="71" y="1143"/>
                  <a:pt x="86" y="1178"/>
                </a:cubicBezTo>
                <a:cubicBezTo>
                  <a:pt x="90" y="1186"/>
                  <a:pt x="88" y="1197"/>
                  <a:pt x="94" y="1204"/>
                </a:cubicBezTo>
                <a:cubicBezTo>
                  <a:pt x="133" y="1253"/>
                  <a:pt x="171" y="1220"/>
                  <a:pt x="215" y="1299"/>
                </a:cubicBezTo>
                <a:cubicBezTo>
                  <a:pt x="267" y="1393"/>
                  <a:pt x="303" y="1430"/>
                  <a:pt x="404" y="1470"/>
                </a:cubicBezTo>
                <a:cubicBezTo>
                  <a:pt x="423" y="1490"/>
                  <a:pt x="449" y="1517"/>
                  <a:pt x="472" y="1531"/>
                </a:cubicBezTo>
                <a:cubicBezTo>
                  <a:pt x="480" y="1536"/>
                  <a:pt x="490" y="1536"/>
                  <a:pt x="498" y="1539"/>
                </a:cubicBezTo>
                <a:cubicBezTo>
                  <a:pt x="510" y="1544"/>
                  <a:pt x="522" y="1549"/>
                  <a:pt x="533" y="1556"/>
                </a:cubicBezTo>
                <a:cubicBezTo>
                  <a:pt x="580" y="1585"/>
                  <a:pt x="598" y="1629"/>
                  <a:pt x="653" y="1642"/>
                </a:cubicBezTo>
                <a:cubicBezTo>
                  <a:pt x="916" y="1638"/>
                  <a:pt x="1154" y="1632"/>
                  <a:pt x="1410" y="1617"/>
                </a:cubicBezTo>
                <a:cubicBezTo>
                  <a:pt x="1450" y="1605"/>
                  <a:pt x="1490" y="1593"/>
                  <a:pt x="1530" y="1582"/>
                </a:cubicBezTo>
                <a:cubicBezTo>
                  <a:pt x="1575" y="1570"/>
                  <a:pt x="1627" y="1572"/>
                  <a:pt x="1667" y="1548"/>
                </a:cubicBezTo>
                <a:cubicBezTo>
                  <a:pt x="1725" y="1513"/>
                  <a:pt x="1758" y="1447"/>
                  <a:pt x="1814" y="1410"/>
                </a:cubicBezTo>
                <a:cubicBezTo>
                  <a:pt x="1837" y="1374"/>
                  <a:pt x="1853" y="1340"/>
                  <a:pt x="1882" y="1307"/>
                </a:cubicBezTo>
                <a:cubicBezTo>
                  <a:pt x="1895" y="1292"/>
                  <a:pt x="1914" y="1281"/>
                  <a:pt x="1925" y="1264"/>
                </a:cubicBezTo>
                <a:cubicBezTo>
                  <a:pt x="1979" y="1178"/>
                  <a:pt x="2009" y="1079"/>
                  <a:pt x="2054" y="989"/>
                </a:cubicBezTo>
                <a:cubicBezTo>
                  <a:pt x="2073" y="951"/>
                  <a:pt x="2111" y="939"/>
                  <a:pt x="2132" y="903"/>
                </a:cubicBezTo>
                <a:cubicBezTo>
                  <a:pt x="2147" y="878"/>
                  <a:pt x="2161" y="852"/>
                  <a:pt x="2175" y="826"/>
                </a:cubicBezTo>
                <a:cubicBezTo>
                  <a:pt x="2181" y="815"/>
                  <a:pt x="2192" y="791"/>
                  <a:pt x="2192" y="791"/>
                </a:cubicBezTo>
                <a:cubicBezTo>
                  <a:pt x="2204" y="730"/>
                  <a:pt x="2216" y="699"/>
                  <a:pt x="2235" y="645"/>
                </a:cubicBezTo>
                <a:cubicBezTo>
                  <a:pt x="2232" y="614"/>
                  <a:pt x="2232" y="582"/>
                  <a:pt x="2226" y="551"/>
                </a:cubicBezTo>
                <a:cubicBezTo>
                  <a:pt x="2200" y="424"/>
                  <a:pt x="1975" y="459"/>
                  <a:pt x="1908" y="456"/>
                </a:cubicBezTo>
                <a:cubicBezTo>
                  <a:pt x="1891" y="450"/>
                  <a:pt x="1869" y="445"/>
                  <a:pt x="1857" y="430"/>
                </a:cubicBezTo>
                <a:cubicBezTo>
                  <a:pt x="1821" y="385"/>
                  <a:pt x="1848" y="311"/>
                  <a:pt x="1805" y="267"/>
                </a:cubicBezTo>
                <a:cubicBezTo>
                  <a:pt x="1774" y="235"/>
                  <a:pt x="1770" y="241"/>
                  <a:pt x="1728" y="232"/>
                </a:cubicBezTo>
                <a:cubicBezTo>
                  <a:pt x="1668" y="203"/>
                  <a:pt x="1611" y="196"/>
                  <a:pt x="1547" y="181"/>
                </a:cubicBezTo>
                <a:cubicBezTo>
                  <a:pt x="1522" y="175"/>
                  <a:pt x="1429" y="148"/>
                  <a:pt x="1427" y="147"/>
                </a:cubicBezTo>
                <a:cubicBezTo>
                  <a:pt x="1415" y="141"/>
                  <a:pt x="1405" y="132"/>
                  <a:pt x="1392" y="129"/>
                </a:cubicBezTo>
                <a:cubicBezTo>
                  <a:pt x="1333" y="114"/>
                  <a:pt x="1264" y="110"/>
                  <a:pt x="1203" y="104"/>
                </a:cubicBezTo>
                <a:cubicBezTo>
                  <a:pt x="1153" y="87"/>
                  <a:pt x="1140" y="40"/>
                  <a:pt x="1091" y="18"/>
                </a:cubicBezTo>
                <a:cubicBezTo>
                  <a:pt x="1075" y="11"/>
                  <a:pt x="1040" y="0"/>
                  <a:pt x="1040" y="0"/>
                </a:cubicBezTo>
                <a:cubicBezTo>
                  <a:pt x="1003" y="3"/>
                  <a:pt x="965" y="2"/>
                  <a:pt x="928" y="9"/>
                </a:cubicBezTo>
                <a:cubicBezTo>
                  <a:pt x="901" y="14"/>
                  <a:pt x="851" y="35"/>
                  <a:pt x="851" y="35"/>
                </a:cubicBezTo>
                <a:cubicBezTo>
                  <a:pt x="839" y="44"/>
                  <a:pt x="829" y="54"/>
                  <a:pt x="816" y="61"/>
                </a:cubicBezTo>
                <a:cubicBezTo>
                  <a:pt x="808" y="65"/>
                  <a:pt x="798" y="64"/>
                  <a:pt x="791" y="69"/>
                </a:cubicBezTo>
                <a:cubicBezTo>
                  <a:pt x="762" y="89"/>
                  <a:pt x="746" y="125"/>
                  <a:pt x="730" y="155"/>
                </a:cubicBezTo>
                <a:cubicBezTo>
                  <a:pt x="726" y="189"/>
                  <a:pt x="724" y="256"/>
                  <a:pt x="696" y="284"/>
                </a:cubicBezTo>
                <a:cubicBezTo>
                  <a:pt x="636" y="344"/>
                  <a:pt x="498" y="316"/>
                  <a:pt x="447" y="318"/>
                </a:cubicBezTo>
                <a:cubicBezTo>
                  <a:pt x="390" y="321"/>
                  <a:pt x="332" y="324"/>
                  <a:pt x="275" y="327"/>
                </a:cubicBezTo>
                <a:cubicBezTo>
                  <a:pt x="222" y="334"/>
                  <a:pt x="186" y="346"/>
                  <a:pt x="137" y="361"/>
                </a:cubicBezTo>
                <a:cubicBezTo>
                  <a:pt x="118" y="374"/>
                  <a:pt x="83" y="402"/>
                  <a:pt x="111" y="430"/>
                </a:cubicBezTo>
                <a:cubicBezTo>
                  <a:pt x="119" y="438"/>
                  <a:pt x="179" y="447"/>
                  <a:pt x="180" y="447"/>
                </a:cubicBezTo>
                <a:cubicBezTo>
                  <a:pt x="212" y="454"/>
                  <a:pt x="243" y="466"/>
                  <a:pt x="275" y="473"/>
                </a:cubicBezTo>
                <a:cubicBezTo>
                  <a:pt x="286" y="485"/>
                  <a:pt x="311" y="503"/>
                  <a:pt x="309" y="525"/>
                </a:cubicBezTo>
                <a:cubicBezTo>
                  <a:pt x="307" y="543"/>
                  <a:pt x="292" y="576"/>
                  <a:pt x="292" y="576"/>
                </a:cubicBezTo>
                <a:cubicBezTo>
                  <a:pt x="326" y="588"/>
                  <a:pt x="327" y="585"/>
                  <a:pt x="292" y="585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5029200"/>
            <a:ext cx="1371600" cy="609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icti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581280"/>
            <a:ext cx="12952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600200"/>
            <a:ext cx="12952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590920"/>
            <a:ext cx="121932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895480"/>
            <a:ext cx="12952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4343400"/>
            <a:ext cx="12956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267080" y="4343040"/>
            <a:ext cx="0" cy="685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772080"/>
            <a:ext cx="1828800" cy="1180800"/>
          </a:xfrm>
          <a:custGeom>
            <a:avLst/>
            <a:gdLst/>
            <a:ahLst/>
            <a:rect l="l" t="t" r="r" b="b"/>
            <a:pathLst>
              <a:path w="1152" h="744">
                <a:moveTo>
                  <a:pt x="0" y="408"/>
                </a:moveTo>
                <a:cubicBezTo>
                  <a:pt x="224" y="228"/>
                  <a:pt x="448" y="48"/>
                  <a:pt x="624" y="24"/>
                </a:cubicBezTo>
                <a:cubicBezTo>
                  <a:pt x="800" y="0"/>
                  <a:pt x="968" y="144"/>
                  <a:pt x="1056" y="264"/>
                </a:cubicBezTo>
                <a:cubicBezTo>
                  <a:pt x="1144" y="384"/>
                  <a:pt x="1148" y="564"/>
                  <a:pt x="1152" y="74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048120"/>
            <a:ext cx="1536840" cy="1981080"/>
          </a:xfrm>
          <a:custGeom>
            <a:avLst/>
            <a:gdLst/>
            <a:ahLst/>
            <a:rect l="l" t="t" r="r" b="b"/>
            <a:pathLst>
              <a:path w="968" h="1248">
                <a:moveTo>
                  <a:pt x="0" y="48"/>
                </a:moveTo>
                <a:cubicBezTo>
                  <a:pt x="236" y="24"/>
                  <a:pt x="472" y="0"/>
                  <a:pt x="624" y="96"/>
                </a:cubicBezTo>
                <a:cubicBezTo>
                  <a:pt x="776" y="192"/>
                  <a:pt x="856" y="448"/>
                  <a:pt x="912" y="624"/>
                </a:cubicBezTo>
                <a:cubicBezTo>
                  <a:pt x="968" y="800"/>
                  <a:pt x="952" y="1056"/>
                  <a:pt x="960" y="1152"/>
                </a:cubicBezTo>
                <a:cubicBezTo>
                  <a:pt x="968" y="1248"/>
                  <a:pt x="964" y="1224"/>
                  <a:pt x="960" y="12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1981080"/>
            <a:ext cx="1066680" cy="2971800"/>
          </a:xfrm>
          <a:custGeom>
            <a:avLst/>
            <a:gdLst/>
            <a:ahLst/>
            <a:rect l="l" t="t" r="r" b="b"/>
            <a:pathLst>
              <a:path w="672" h="1872">
                <a:moveTo>
                  <a:pt x="672" y="0"/>
                </a:moveTo>
                <a:cubicBezTo>
                  <a:pt x="556" y="104"/>
                  <a:pt x="440" y="208"/>
                  <a:pt x="336" y="432"/>
                </a:cubicBezTo>
                <a:cubicBezTo>
                  <a:pt x="232" y="656"/>
                  <a:pt x="96" y="1104"/>
                  <a:pt x="48" y="1344"/>
                </a:cubicBezTo>
                <a:cubicBezTo>
                  <a:pt x="0" y="1584"/>
                  <a:pt x="48" y="1784"/>
                  <a:pt x="48" y="1872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2590920"/>
            <a:ext cx="2361960" cy="2286000"/>
          </a:xfrm>
          <a:custGeom>
            <a:avLst/>
            <a:gdLst/>
            <a:ahLst/>
            <a:rect l="l" t="t" r="r" b="b"/>
            <a:pathLst>
              <a:path w="1488" h="1400">
                <a:moveTo>
                  <a:pt x="1488" y="104"/>
                </a:moveTo>
                <a:cubicBezTo>
                  <a:pt x="1172" y="52"/>
                  <a:pt x="856" y="0"/>
                  <a:pt x="624" y="152"/>
                </a:cubicBezTo>
                <a:cubicBezTo>
                  <a:pt x="392" y="304"/>
                  <a:pt x="192" y="808"/>
                  <a:pt x="96" y="1016"/>
                </a:cubicBezTo>
                <a:cubicBezTo>
                  <a:pt x="0" y="1224"/>
                  <a:pt x="56" y="1336"/>
                  <a:pt x="48" y="1400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517920"/>
            <a:ext cx="1905120" cy="1359000"/>
          </a:xfrm>
          <a:custGeom>
            <a:avLst/>
            <a:gdLst/>
            <a:ahLst/>
            <a:rect l="l" t="t" r="r" b="b"/>
            <a:pathLst>
              <a:path w="1200" h="856">
                <a:moveTo>
                  <a:pt x="1200" y="136"/>
                </a:moveTo>
                <a:cubicBezTo>
                  <a:pt x="972" y="68"/>
                  <a:pt x="744" y="0"/>
                  <a:pt x="576" y="40"/>
                </a:cubicBezTo>
                <a:cubicBezTo>
                  <a:pt x="408" y="80"/>
                  <a:pt x="288" y="240"/>
                  <a:pt x="192" y="376"/>
                </a:cubicBezTo>
                <a:cubicBezTo>
                  <a:pt x="96" y="512"/>
                  <a:pt x="48" y="684"/>
                  <a:pt x="0" y="856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1752480"/>
            <a:ext cx="11430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361960" y="2286000"/>
            <a:ext cx="228600" cy="6094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276720" y="1828440"/>
            <a:ext cx="1752480" cy="1522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133720"/>
            <a:ext cx="3429000" cy="5331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209680"/>
            <a:ext cx="3581640" cy="1371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438280" y="2286000"/>
            <a:ext cx="609840" cy="20574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800600"/>
            <a:ext cx="190512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 Attack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123720" y="2285640"/>
            <a:ext cx="3581640" cy="2438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4F7-9261-4509-B7F7-F63018EA3C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ow They Talk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rinoo:  attacker uses TCP; masters and daemons use UDP; password authentication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FN:  attacker uses shell to invoke master; masters and daemons use ICMP ECHOREPLY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cheldraht: attacker uses encrypted TCP connection to master; masters and daemons use TCP and ICMP ECHO REPLY; rcp used for auto-updat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A32-D075-4134-9702-011E313993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Deploying DDOS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ttackers seem to use standard, well-known holes (i.e., rpc.ttdbserver, amd, rpc.cmsd, rpc.mountd, rpc.statd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ey appear to have “auto-hack” tools – point, click, and invad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esson: practice good computer hygie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468-1DFE-45FD-8A87-45605A10CE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Detecting DDOS Tools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st current IDS’s detect the current generation of tools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ey work by looking for DDOS control messages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turally, these will change over time; in particular, more such messages will be properly encrypted.  (A hacker PKI?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9A4-4957-443A-B21D-F71FB78DAE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What are the Strong Defenses?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ere aren’t any…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96A-39E6-4D3B-A30C-BC191A9DC5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What Can ISPs Do?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ploy source address anti-spoof filters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very important!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urn off directed broadcast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lop security relationships with neighbor ISP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t up mechanism for handling customer security complaint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lop traffic volume monitoring technique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29B-00AD-4C9C-A982-11270EF9B0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Traffic Volume Monitoring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ok for too much traffic to a particular destination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earn to look for traffic to that destination at your border routers (access routers, peers, exchange points, etc.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an we automate the tools – too many queue drops on an access router will trigger source detection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A25-920E-479F-80AF-6C298D19D5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4T16:30:29Z</dcterms:created>
  <dc:creator>Steve Michael Bellovin</dc:creator>
  <dc:description/>
  <dc:language>en-US</dc:language>
  <cp:lastModifiedBy>Steven M. Bellovin</cp:lastModifiedBy>
  <dcterms:modified xsi:type="dcterms:W3CDTF">2000-02-07T16:50:17Z</dcterms:modified>
  <cp:revision>9</cp:revision>
  <dc:subject/>
  <dc:title>Denial of Service Atta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research.att.com/~smb</vt:lpwstr>
  </property>
  <property fmtid="{D5CDD505-2E9C-101B-9397-08002B2CF9AE}" pid="9" name="LinkColor">
    <vt:r8>16711782</vt:r8>
  </property>
  <property fmtid="{D5CDD505-2E9C-101B-9397-08002B2CF9AE}" pid="10" name="MailAddress">
    <vt:lpwstr>smb@research.att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SMB\lib\wwwfil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